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11D8-028D-4F0C-AF26-C0AC8D9F6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9561-D07C-4725-B068-9D2F9C908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DBA3-12AA-43BC-A500-EACF3D659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EBFC-533B-419A-B879-7A25CDFDA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This is a vector graphic (WMF) from the clipart files in Microsoft PowerPoint.  Notice that the image does not become pixelated when it is resized, it retains the original qu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reak the image down into its individual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Draw toolbar, click on Un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Yes in the Dialog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Draw, Ungroup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individual shapes can be moved and manipulated. For a fun activity, allow students to experiment with ungrouping an image and re-coloring it. Be sure they Regroup it before trying to move it, though. If they don’t regroup, they will only move pieces of the image instead of the entir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2F2D-2C95-46F1-BFB3-6B7EE3F8F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DB03-1D29-48AF-9181-0005315C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F9C5-78A8-40BA-BDD5-2558BEA8C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Emphasize to the students the much better quality of the raster graphic because it is made up of pixels which can show much more detail than l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link opens this URL:  http://alabamamaps.ua.edu/tutorial/example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68DB-15C6-4279-B206-8BA72EF28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FD35-873F-4488-B625-28881C574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4493-AD8A-4C0A-8A7B-800080ABE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For more information, visit this link:  http://www.sqa.org.uk/e-learning/BitVect01CD/page_29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0F7A-AE38-4554-98C3-3127186C3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B632-DB95-4C7A-B568-A84211F578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20515-79B7-4DE6-AA74-C13A44C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029C5-2B90-49DF-A64A-9064BCC6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F6BBD-EB81-4415-92E2-DFF9C56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9DB20-C36D-489D-B3F0-1249BAEC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A31B3-6157-4A92-9D4F-7FAB234B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837FA-F14F-49C3-B2C2-FCDCFC5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BE84B-EFE2-4592-A662-B31E76E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FB093-CA42-458F-8BD0-344EF9BF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CF151-7285-4669-85BF-A513BD8F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2DB11-BD73-41E9-AF21-B8294DFA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E93A-4D10-4412-94FC-32F48BB520B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87C91-4B1F-4C5F-A7C5-37D51085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DFFF3-24D4-4EA0-8ED3-49029FFA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85957-7363-4B4D-844C-4A6555C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19F6E-B44E-4A12-B285-4BD21274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F20FC-0FB4-4B22-9540-FDC76CA0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39B29-DE81-4D9E-9E36-6B7FD2D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B6429-C1EF-4585-954D-F3D6235C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95C95-D42E-4690-9423-C55A6B71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D9935-65FC-473C-AFE2-334296FF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C5B8D-DBD5-4F66-80E2-83C88F6C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004E-EF24-456E-AFB0-58BC02A307A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E3AC4-CA65-40BE-B6FA-F679EE65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04AA9-07F8-410D-AFF3-3D17FEC7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3DA49-411C-485D-8F74-AC3AD65A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35D08-A1FA-49A9-9348-FF7EE51B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51187-AB6C-4920-82B5-824CCE7C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91C69-A580-4F5F-B8A7-75514F19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6DBF6-3B17-4215-AFA2-C86FD2A8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ED9AF-AB76-426F-A6BB-8F2C3152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958F0-4ADD-438D-B61D-313B4330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FA930-9E7C-47C6-9276-8F5901A4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47502-FF12-48BC-B26A-726E22B2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721EF-8B46-4B79-8C50-4A24D429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D0EC3-E267-4CF1-AAE9-0BCFBD56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37ECC-094D-4B2A-A6F6-1CAC3E0D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11FEF-B6AE-4312-87DF-4CE5466B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B23B1-AB26-4CBF-9AEB-CE1AB6AD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12C0A-0549-435E-B3C9-AE321235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D9426-3FCE-479B-A8A3-121112B9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1E68A-FB1A-409A-837C-41C7C1E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0FD2B-5179-42BA-BDCA-B55CD79A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89598-02A0-4A2B-BE32-B4C70485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7A623-60F6-4322-B398-5A53FDEA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7E769-7D49-4082-9F55-C7945248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DBB40-7410-4699-8922-2BEBF06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D7C6F-A3FA-456B-860D-8329A56E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CED6F-DE31-491A-841C-A79D7151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39A49-9FFD-4167-A33C-42B1A720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C713E-2325-4E24-8815-77DBD272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F8E31-F5B0-4369-A3E8-6FCE802A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68968-4E90-4AB1-8D67-92B9D82B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D5FB0-199C-4802-98E8-220CC22A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CC12D-9800-4919-A964-27C358EC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998C2-48DD-4CDF-A34A-B417821E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E310E-16EE-403D-BC87-7C062F72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BF700-0534-4DD5-8E7E-7003A2D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0B2C6-8591-4E2D-BA4F-031CE0FB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BC173-B819-491B-A701-10CB42F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C345B-C76B-4F10-80B4-0415300B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6D65B-8C0E-47BC-A9B3-0F87FFE4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9F4A3-0527-487D-90E6-A9E475B2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759A6-9DCB-4C79-9E79-E90293FC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2E4D5-523C-41A3-837C-11A50AA7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04E22-1EBC-49F9-98BD-025709E1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040E8-22BA-4452-B9FD-4479C13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648A-DFBA-4AE0-853F-52E7AE603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132EA-95CC-4938-826C-0D4F83F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01750-6F2E-4E40-8694-4FC5FC0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4BA1D-01B8-49A1-89ED-279E5648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9B202-71CC-4836-9AA4-A00B7677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3A966-32FB-40E8-9DDA-C88C168E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B72A8-8AF8-4086-934D-EAFE8ED45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DA4B7-871C-46E5-B9C1-8512390C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3B4F3-AD95-4CBC-9286-C8BDB05E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D08CB-ED5A-489D-9F23-1C83EF9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46F67-F235-415E-8A92-A43961C1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94E5-2D61-4470-B685-BD1EA7CFE4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8E793-D77C-43BC-BE30-36985022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75D71-BE1A-4E44-8455-0304BE9F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69CC5-20DB-45DA-A6A8-4A6E3DD4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2E6F1-3323-4617-B706-37453323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6FFE6-3BA1-4CCB-9099-D3FE3BC4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200E12-2114-45C8-A154-B6D4A1B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0389EE-16F3-4754-BA4E-1F6A94A459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A0E51-FCA9-4F93-BF2F-B34DA3FE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910D0-A7DD-4A59-A5CB-18F3A55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01518-B7BA-4288-8F21-8F0D5B72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5290-F135-4F52-8655-3D1F4EAFFC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64708-B953-49E2-BD71-6BD1CE0D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6B3ABD-AAD8-41F2-B0C9-0BCD437C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00290-BEAA-4D50-90F9-06BBF6A4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5B1ED-5B32-4891-9EBD-A3ABFD7A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DA184-DC93-4216-9342-59598A9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2F193-7EB3-45E1-91C1-52BB947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52F15-F557-4C20-A57A-699BBCD0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2EBC3-F3FE-4811-8269-A1BB7F7D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C4ABB-A9A5-4541-980A-86193FDB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1FD2A-8058-4B60-A928-4154EDB217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533E-239B-4A0B-8321-2CA48D0ABE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CC15-FDA4-4F56-926E-8A3857AE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D104-7E1D-4FB8-A1A8-8D7E7949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A53C8-7434-4137-91EB-ACF5107A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DA38-7124-41E3-B622-663B0788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4862-8125-46B1-A1DB-54D9DFD6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A6E60-BF3D-4838-B720-FA0CB130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469A-9C9A-4C86-8F3E-1B53AC0E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9ABA-15F2-4D77-AC8D-953A1386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81A4-4BDC-4231-83E3-BC4CB6CA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49435-E96B-4291-9CBE-535FDCB0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50E1-571F-4C47-87B2-37417D35C3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7236-5FF2-45BD-9497-EE3E163953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8B9C3-E59B-400A-B99E-58483992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E9DC-6DDC-4CD8-803C-508C8096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AE31F-3132-48CD-A4A7-CE6632ED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A853-2B8A-422E-8156-1CDA13EF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32058-EF43-44BE-84D5-561180D4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D52C7-9959-4F18-A257-9FD1EE85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20F0A-C72E-4E39-9502-EEC6D8E5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5837A-7734-4D3A-A0C9-EBA828D2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90CC5-89CC-42D7-B9EE-11AC1F96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767D-D0C3-494C-B8EB-B06560085D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C72D8-014C-491D-81B9-00A662B8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5EBCD-26AA-42A8-89B7-F1E9EDD1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0F93-6FC4-4799-AA2F-28B69612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4D4D8-31D0-4C86-BE1A-7393726D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1BAC1-6A18-4DB0-A968-CC4002FB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50E8-D55D-4568-8DFB-68AAAF41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6846-E4F4-4A64-A6D2-4119DC19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1322-3FD2-42D4-8420-16AE5FC7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402B6-9CD9-4FAE-A7EF-5464B592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51FB6-6B2B-43AC-977F-C42B2837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F083-EB5E-42D1-86B9-3E262F95D6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A6DE4-4DAF-4B9E-8F18-73C86FA0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8247A-FC5A-4A6D-8EE0-8106AFA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EAB6B-CE85-4275-8B0F-21A6AD88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6497F-956A-4CA0-9BAC-47FDE125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F3E3-571A-4756-ABCA-7A223D5E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0DBB1-6F42-46EA-B1C4-21121C83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82BF-0B8B-4F51-A726-4EE9C68B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7A837-9124-4A1B-A207-511E49E9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B48A3-E6AA-42D1-8F61-C77C89B6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57447-7D2A-4016-806A-1447E45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6BB9-522A-4D7F-A1D6-429EFF43B9A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91B20-1B1B-4DB2-8F74-0DE89ADD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1991-776D-4910-B33E-0A0863C8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EECE5-BD51-4B4B-96EB-141E2C3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FFFC6-A0B6-4489-926B-549BBF8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3208C-24DA-4B60-96BA-89EAECA2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7420B-2B93-4E91-AC6C-83D1DB5E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326C3-16CF-42A6-93A1-EF878065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E908-9AEE-4D0D-BB5C-81A6D709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784DE-4624-4D94-89FA-398947D6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44F05-4341-4A9C-989E-47929556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D5A5-6B6A-4DD8-BF68-91348D0BC5C9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74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575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6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552B-3EE3-4C0E-95B5-35B7925A78A5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38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639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29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5749-9A54-4166-89B0-C20560C79055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02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703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32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15A3-3CC4-4460-AAF3-C6763A47E069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66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767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943A-CF71-4D55-A65F-09BFA9DF8729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4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5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4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4C6C-20A0-404B-AF30-77C1CF3E4C0F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129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221D-2EEC-48F3-9DC1-1993C481E8DF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19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EA6C-1CE4-4F73-8626-D67843B62C91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55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56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06A8-81F2-45CE-BCB1-B6914058C768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18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319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4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87C4-5CFD-4CA9-AFE4-3170BBE05D76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82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383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B96D-A10E-45DB-86A8-620CD739D501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46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447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CF06-406F-4693-8773-5AB1803CA8A8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10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511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3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C547-895E-4703-857D-0388686F2CA5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qvectors.com/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labamamaps.ua.edu/tutorial/example1.html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Calibri"/>
              </a:rPr>
              <a:t>Vector Graphics</a:t>
            </a:r>
            <a:endParaRPr b="0" lang="en-US" sz="7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736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2.01 Investigate graphic image design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More Vector Formats 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VG – Scalable Vector Graphics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ndard format created by W3C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satile, all-purpose vector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DR – Corel Dra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XF – AutoCA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MF – Windows Metafi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839" name="Group 14"/>
          <p:cNvGrpSpPr/>
          <p:nvPr/>
        </p:nvGrpSpPr>
        <p:grpSpPr>
          <a:xfrm>
            <a:off x="4572000" y="3906720"/>
            <a:ext cx="4572000" cy="2951280"/>
            <a:chOff x="4572000" y="3906720"/>
            <a:chExt cx="4572000" cy="2951280"/>
          </a:xfrm>
        </p:grpSpPr>
        <p:pic>
          <p:nvPicPr>
            <p:cNvPr id="840" name="Picture 9" descr="B%C3%A9zier_curve_in_Adobe_Illustrator_CS2"/>
            <p:cNvPicPr/>
            <p:nvPr/>
          </p:nvPicPr>
          <p:blipFill>
            <a:blip r:embed="rId1"/>
            <a:stretch/>
          </p:blipFill>
          <p:spPr>
            <a:xfrm>
              <a:off x="5486400" y="3906720"/>
              <a:ext cx="36576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Text Box 10"/>
            <p:cNvSpPr/>
            <p:nvPr/>
          </p:nvSpPr>
          <p:spPr>
            <a:xfrm>
              <a:off x="4572000" y="5486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1"/>
            <p:cNvSpPr/>
            <p:nvPr/>
          </p:nvSpPr>
          <p:spPr>
            <a:xfrm flipV="1">
              <a:off x="5410080" y="54860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12"/>
            <p:cNvSpPr/>
            <p:nvPr/>
          </p:nvSpPr>
          <p:spPr>
            <a:xfrm>
              <a:off x="7767720" y="6248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and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3"/>
            <p:cNvSpPr/>
            <p:nvPr/>
          </p:nvSpPr>
          <p:spPr>
            <a:xfrm flipH="1" flipV="1">
              <a:off x="8001000" y="6019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914040" y="1066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spcBef>
                <a:spcPts val="774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Vector graphics are created from  mathematical formulas used to define lines, shapes and curves. 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93840" indent="-393840">
              <a:spcBef>
                <a:spcPts val="774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Edited in draw programs 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93840" indent="-393840">
              <a:spcBef>
                <a:spcPts val="774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Shapes can be edited by moving points called nodes (drawing points)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93840" indent="-393840">
              <a:spcBef>
                <a:spcPts val="774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1066680" y="2286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Vector Graph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142640" y="5638320"/>
            <a:ext cx="5791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exampl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 Narrow"/>
                <a:hlinkClick r:id="rId1"/>
              </a:rPr>
              <a:t>http://qvectors.com/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9" name="Text Box 7"/>
          <p:cNvSpPr/>
          <p:nvPr/>
        </p:nvSpPr>
        <p:spPr>
          <a:xfrm>
            <a:off x="12952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Group 14"/>
          <p:cNvGrpSpPr/>
          <p:nvPr/>
        </p:nvGrpSpPr>
        <p:grpSpPr>
          <a:xfrm>
            <a:off x="1371600" y="1371600"/>
            <a:ext cx="2362320" cy="2288520"/>
            <a:chOff x="1371600" y="1371600"/>
            <a:chExt cx="2362320" cy="2288520"/>
          </a:xfrm>
        </p:grpSpPr>
        <p:pic>
          <p:nvPicPr>
            <p:cNvPr id="851" name="Picture 11" descr="j0305651"/>
            <p:cNvPicPr/>
            <p:nvPr/>
          </p:nvPicPr>
          <p:blipFill>
            <a:blip r:embed="rId2"/>
            <a:stretch/>
          </p:blipFill>
          <p:spPr>
            <a:xfrm>
              <a:off x="1600200" y="1371600"/>
              <a:ext cx="117936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12"/>
            <p:cNvSpPr/>
            <p:nvPr/>
          </p:nvSpPr>
          <p:spPr>
            <a:xfrm>
              <a:off x="137160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Original 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Group 16"/>
          <p:cNvGrpSpPr/>
          <p:nvPr/>
        </p:nvGrpSpPr>
        <p:grpSpPr>
          <a:xfrm>
            <a:off x="3809880" y="1523880"/>
            <a:ext cx="2133720" cy="4128480"/>
            <a:chOff x="3809880" y="1523880"/>
            <a:chExt cx="2133720" cy="4128480"/>
          </a:xfrm>
        </p:grpSpPr>
        <p:pic>
          <p:nvPicPr>
            <p:cNvPr id="854" name="Picture 13" descr="j0305651"/>
            <p:cNvPicPr/>
            <p:nvPr/>
          </p:nvPicPr>
          <p:blipFill>
            <a:blip r:embed="rId3"/>
            <a:stretch/>
          </p:blipFill>
          <p:spPr>
            <a:xfrm>
              <a:off x="3809880" y="1523880"/>
              <a:ext cx="2133720" cy="32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 Box 15"/>
            <p:cNvSpPr/>
            <p:nvPr/>
          </p:nvSpPr>
          <p:spPr>
            <a:xfrm>
              <a:off x="4101840" y="4826880"/>
              <a:ext cx="182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esized 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Group 42"/>
          <p:cNvGrpSpPr/>
          <p:nvPr/>
        </p:nvGrpSpPr>
        <p:grpSpPr>
          <a:xfrm>
            <a:off x="6477120" y="1600200"/>
            <a:ext cx="2144160" cy="4848840"/>
            <a:chOff x="6477120" y="1600200"/>
            <a:chExt cx="2144160" cy="4848840"/>
          </a:xfrm>
        </p:grpSpPr>
        <p:sp>
          <p:nvSpPr>
            <p:cNvPr id="857" name="Text Box 19"/>
            <p:cNvSpPr/>
            <p:nvPr/>
          </p:nvSpPr>
          <p:spPr>
            <a:xfrm>
              <a:off x="6705360" y="525780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hapes that make up the im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Group 41"/>
            <p:cNvGrpSpPr/>
            <p:nvPr/>
          </p:nvGrpSpPr>
          <p:grpSpPr>
            <a:xfrm>
              <a:off x="6477120" y="1600200"/>
              <a:ext cx="2144160" cy="3508200"/>
              <a:chOff x="6477120" y="1600200"/>
              <a:chExt cx="2144160" cy="3508200"/>
            </a:xfrm>
          </p:grpSpPr>
          <p:sp>
            <p:nvSpPr>
              <p:cNvPr id="859" name="AutoShape 20"/>
              <p:cNvSpPr/>
              <p:nvPr/>
            </p:nvSpPr>
            <p:spPr>
              <a:xfrm>
                <a:off x="6477120" y="2209680"/>
                <a:ext cx="1577880" cy="24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22"/>
              <p:cNvSpPr/>
              <p:nvPr/>
            </p:nvSpPr>
            <p:spPr>
              <a:xfrm>
                <a:off x="7086600" y="4114800"/>
                <a:ext cx="456840" cy="810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575" h="101">
                    <a:moveTo>
                      <a:pt x="0" y="66"/>
                    </a:moveTo>
                    <a:lnTo>
                      <a:pt x="67" y="78"/>
                    </a:lnTo>
                    <a:lnTo>
                      <a:pt x="128" y="87"/>
                    </a:lnTo>
                    <a:lnTo>
                      <a:pt x="187" y="95"/>
                    </a:lnTo>
                    <a:lnTo>
                      <a:pt x="242" y="98"/>
                    </a:lnTo>
                    <a:lnTo>
                      <a:pt x="293" y="101"/>
                    </a:lnTo>
                    <a:lnTo>
                      <a:pt x="339" y="100"/>
                    </a:lnTo>
                    <a:lnTo>
                      <a:pt x="382" y="98"/>
                    </a:lnTo>
                    <a:lnTo>
                      <a:pt x="421" y="95"/>
                    </a:lnTo>
                    <a:lnTo>
                      <a:pt x="455" y="92"/>
                    </a:lnTo>
                    <a:lnTo>
                      <a:pt x="486" y="87"/>
                    </a:lnTo>
                    <a:lnTo>
                      <a:pt x="512" y="83"/>
                    </a:lnTo>
                    <a:lnTo>
                      <a:pt x="533" y="78"/>
                    </a:lnTo>
                    <a:lnTo>
                      <a:pt x="550" y="73"/>
                    </a:lnTo>
                    <a:lnTo>
                      <a:pt x="563" y="70"/>
                    </a:lnTo>
                    <a:lnTo>
                      <a:pt x="572" y="67"/>
                    </a:lnTo>
                    <a:lnTo>
                      <a:pt x="575" y="66"/>
                    </a:lnTo>
                    <a:lnTo>
                      <a:pt x="552" y="3"/>
                    </a:lnTo>
                    <a:lnTo>
                      <a:pt x="549" y="3"/>
                    </a:lnTo>
                    <a:lnTo>
                      <a:pt x="543" y="6"/>
                    </a:lnTo>
                    <a:lnTo>
                      <a:pt x="530" y="9"/>
                    </a:lnTo>
                    <a:lnTo>
                      <a:pt x="515" y="12"/>
                    </a:lnTo>
                    <a:lnTo>
                      <a:pt x="495" y="16"/>
                    </a:lnTo>
                    <a:lnTo>
                      <a:pt x="472" y="21"/>
                    </a:lnTo>
                    <a:lnTo>
                      <a:pt x="443" y="24"/>
                    </a:lnTo>
                    <a:lnTo>
                      <a:pt x="410" y="29"/>
                    </a:lnTo>
                    <a:lnTo>
                      <a:pt x="375" y="30"/>
                    </a:lnTo>
                    <a:lnTo>
                      <a:pt x="335" y="32"/>
                    </a:lnTo>
                    <a:lnTo>
                      <a:pt x="290" y="32"/>
                    </a:lnTo>
                    <a:lnTo>
                      <a:pt x="242" y="30"/>
                    </a:lnTo>
                    <a:lnTo>
                      <a:pt x="191" y="27"/>
                    </a:lnTo>
                    <a:lnTo>
                      <a:pt x="136" y="21"/>
                    </a:lnTo>
                    <a:lnTo>
                      <a:pt x="76" y="12"/>
                    </a:lnTo>
                    <a:lnTo>
                      <a:pt x="1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3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Freeform 23"/>
              <p:cNvSpPr/>
              <p:nvPr/>
            </p:nvSpPr>
            <p:spPr>
              <a:xfrm>
                <a:off x="6858000" y="4190760"/>
                <a:ext cx="1009080" cy="917640"/>
              </a:xfrm>
              <a:custGeom>
                <a:avLst/>
                <a:gdLst>
                  <a:gd name="textAreaLeft" fmla="*/ 0 w 1009080"/>
                  <a:gd name="textAreaRight" fmla="*/ 1009440 w 1009080"/>
                  <a:gd name="textAreaTop" fmla="*/ 0 h 917640"/>
                  <a:gd name="textAreaBottom" fmla="*/ 918000 h 917640"/>
                </a:gdLst>
                <a:ahLst/>
                <a:rect l="textAreaLeft" t="textAreaTop" r="textAreaRight" b="textAreaBottom"/>
                <a:pathLst>
                  <a:path w="1273" h="1155">
                    <a:moveTo>
                      <a:pt x="0" y="37"/>
                    </a:moveTo>
                    <a:lnTo>
                      <a:pt x="3" y="43"/>
                    </a:lnTo>
                    <a:lnTo>
                      <a:pt x="13" y="58"/>
                    </a:lnTo>
                    <a:lnTo>
                      <a:pt x="26" y="84"/>
                    </a:lnTo>
                    <a:lnTo>
                      <a:pt x="45" y="118"/>
                    </a:lnTo>
                    <a:lnTo>
                      <a:pt x="68" y="161"/>
                    </a:lnTo>
                    <a:lnTo>
                      <a:pt x="93" y="212"/>
                    </a:lnTo>
                    <a:lnTo>
                      <a:pt x="119" y="271"/>
                    </a:lnTo>
                    <a:lnTo>
                      <a:pt x="148" y="337"/>
                    </a:lnTo>
                    <a:lnTo>
                      <a:pt x="176" y="411"/>
                    </a:lnTo>
                    <a:lnTo>
                      <a:pt x="205" y="491"/>
                    </a:lnTo>
                    <a:lnTo>
                      <a:pt x="233" y="577"/>
                    </a:lnTo>
                    <a:lnTo>
                      <a:pt x="259" y="670"/>
                    </a:lnTo>
                    <a:lnTo>
                      <a:pt x="282" y="767"/>
                    </a:lnTo>
                    <a:lnTo>
                      <a:pt x="302" y="870"/>
                    </a:lnTo>
                    <a:lnTo>
                      <a:pt x="319" y="976"/>
                    </a:lnTo>
                    <a:lnTo>
                      <a:pt x="332" y="1087"/>
                    </a:lnTo>
                    <a:lnTo>
                      <a:pt x="336" y="1143"/>
                    </a:lnTo>
                    <a:lnTo>
                      <a:pt x="342" y="1140"/>
                    </a:lnTo>
                    <a:lnTo>
                      <a:pt x="358" y="1129"/>
                    </a:lnTo>
                    <a:lnTo>
                      <a:pt x="381" y="1115"/>
                    </a:lnTo>
                    <a:lnTo>
                      <a:pt x="407" y="1098"/>
                    </a:lnTo>
                    <a:lnTo>
                      <a:pt x="435" y="1080"/>
                    </a:lnTo>
                    <a:lnTo>
                      <a:pt x="463" y="1064"/>
                    </a:lnTo>
                    <a:lnTo>
                      <a:pt x="486" y="1049"/>
                    </a:lnTo>
                    <a:lnTo>
                      <a:pt x="501" y="1039"/>
                    </a:lnTo>
                    <a:lnTo>
                      <a:pt x="515" y="1052"/>
                    </a:lnTo>
                    <a:lnTo>
                      <a:pt x="535" y="1067"/>
                    </a:lnTo>
                    <a:lnTo>
                      <a:pt x="558" y="1086"/>
                    </a:lnTo>
                    <a:lnTo>
                      <a:pt x="583" y="1106"/>
                    </a:lnTo>
                    <a:lnTo>
                      <a:pt x="606" y="1124"/>
                    </a:lnTo>
                    <a:lnTo>
                      <a:pt x="626" y="1140"/>
                    </a:lnTo>
                    <a:lnTo>
                      <a:pt x="640" y="1150"/>
                    </a:lnTo>
                    <a:lnTo>
                      <a:pt x="644" y="1155"/>
                    </a:lnTo>
                    <a:lnTo>
                      <a:pt x="649" y="1150"/>
                    </a:lnTo>
                    <a:lnTo>
                      <a:pt x="660" y="1141"/>
                    </a:lnTo>
                    <a:lnTo>
                      <a:pt x="677" y="1124"/>
                    </a:lnTo>
                    <a:lnTo>
                      <a:pt x="697" y="1106"/>
                    </a:lnTo>
                    <a:lnTo>
                      <a:pt x="717" y="1087"/>
                    </a:lnTo>
                    <a:lnTo>
                      <a:pt x="738" y="1067"/>
                    </a:lnTo>
                    <a:lnTo>
                      <a:pt x="755" y="1052"/>
                    </a:lnTo>
                    <a:lnTo>
                      <a:pt x="769" y="1039"/>
                    </a:lnTo>
                    <a:lnTo>
                      <a:pt x="786" y="1050"/>
                    </a:lnTo>
                    <a:lnTo>
                      <a:pt x="811" y="1066"/>
                    </a:lnTo>
                    <a:lnTo>
                      <a:pt x="840" y="1083"/>
                    </a:lnTo>
                    <a:lnTo>
                      <a:pt x="871" y="1103"/>
                    </a:lnTo>
                    <a:lnTo>
                      <a:pt x="900" y="1121"/>
                    </a:lnTo>
                    <a:lnTo>
                      <a:pt x="925" y="1137"/>
                    </a:lnTo>
                    <a:lnTo>
                      <a:pt x="942" y="1146"/>
                    </a:lnTo>
                    <a:lnTo>
                      <a:pt x="948" y="1150"/>
                    </a:lnTo>
                    <a:lnTo>
                      <a:pt x="956" y="1098"/>
                    </a:lnTo>
                    <a:lnTo>
                      <a:pt x="957" y="1090"/>
                    </a:lnTo>
                    <a:lnTo>
                      <a:pt x="960" y="1069"/>
                    </a:lnTo>
                    <a:lnTo>
                      <a:pt x="965" y="1035"/>
                    </a:lnTo>
                    <a:lnTo>
                      <a:pt x="973" y="992"/>
                    </a:lnTo>
                    <a:lnTo>
                      <a:pt x="982" y="938"/>
                    </a:lnTo>
                    <a:lnTo>
                      <a:pt x="994" y="876"/>
                    </a:lnTo>
                    <a:lnTo>
                      <a:pt x="1008" y="808"/>
                    </a:lnTo>
                    <a:lnTo>
                      <a:pt x="1025" y="733"/>
                    </a:lnTo>
                    <a:lnTo>
                      <a:pt x="1045" y="654"/>
                    </a:lnTo>
                    <a:lnTo>
                      <a:pt x="1068" y="571"/>
                    </a:lnTo>
                    <a:lnTo>
                      <a:pt x="1094" y="486"/>
                    </a:lnTo>
                    <a:lnTo>
                      <a:pt x="1124" y="402"/>
                    </a:lnTo>
                    <a:lnTo>
                      <a:pt x="1156" y="315"/>
                    </a:lnTo>
                    <a:lnTo>
                      <a:pt x="1192" y="232"/>
                    </a:lnTo>
                    <a:lnTo>
                      <a:pt x="1230" y="151"/>
                    </a:lnTo>
                    <a:lnTo>
                      <a:pt x="1273" y="74"/>
                    </a:lnTo>
                    <a:lnTo>
                      <a:pt x="1215" y="40"/>
                    </a:lnTo>
                    <a:lnTo>
                      <a:pt x="1178" y="106"/>
                    </a:lnTo>
                    <a:lnTo>
                      <a:pt x="1142" y="175"/>
                    </a:lnTo>
                    <a:lnTo>
                      <a:pt x="1111" y="246"/>
                    </a:lnTo>
                    <a:lnTo>
                      <a:pt x="1081" y="320"/>
                    </a:lnTo>
                    <a:lnTo>
                      <a:pt x="1054" y="392"/>
                    </a:lnTo>
                    <a:lnTo>
                      <a:pt x="1030" y="465"/>
                    </a:lnTo>
                    <a:lnTo>
                      <a:pt x="1007" y="537"/>
                    </a:lnTo>
                    <a:lnTo>
                      <a:pt x="987" y="608"/>
                    </a:lnTo>
                    <a:lnTo>
                      <a:pt x="970" y="677"/>
                    </a:lnTo>
                    <a:lnTo>
                      <a:pt x="953" y="744"/>
                    </a:lnTo>
                    <a:lnTo>
                      <a:pt x="939" y="805"/>
                    </a:lnTo>
                    <a:lnTo>
                      <a:pt x="926" y="864"/>
                    </a:lnTo>
                    <a:lnTo>
                      <a:pt x="917" y="916"/>
                    </a:lnTo>
                    <a:lnTo>
                      <a:pt x="908" y="964"/>
                    </a:lnTo>
                    <a:lnTo>
                      <a:pt x="900" y="1004"/>
                    </a:lnTo>
                    <a:lnTo>
                      <a:pt x="896" y="1038"/>
                    </a:lnTo>
                    <a:lnTo>
                      <a:pt x="877" y="1027"/>
                    </a:lnTo>
                    <a:lnTo>
                      <a:pt x="856" y="1013"/>
                    </a:lnTo>
                    <a:lnTo>
                      <a:pt x="832" y="999"/>
                    </a:lnTo>
                    <a:lnTo>
                      <a:pt x="811" y="987"/>
                    </a:lnTo>
                    <a:lnTo>
                      <a:pt x="791" y="975"/>
                    </a:lnTo>
                    <a:lnTo>
                      <a:pt x="775" y="966"/>
                    </a:lnTo>
                    <a:lnTo>
                      <a:pt x="765" y="959"/>
                    </a:lnTo>
                    <a:lnTo>
                      <a:pt x="760" y="956"/>
                    </a:lnTo>
                    <a:lnTo>
                      <a:pt x="755" y="959"/>
                    </a:lnTo>
                    <a:lnTo>
                      <a:pt x="746" y="970"/>
                    </a:lnTo>
                    <a:lnTo>
                      <a:pt x="731" y="984"/>
                    </a:lnTo>
                    <a:lnTo>
                      <a:pt x="712" y="1001"/>
                    </a:lnTo>
                    <a:lnTo>
                      <a:pt x="692" y="1019"/>
                    </a:lnTo>
                    <a:lnTo>
                      <a:pt x="672" y="1038"/>
                    </a:lnTo>
                    <a:lnTo>
                      <a:pt x="655" y="1053"/>
                    </a:lnTo>
                    <a:lnTo>
                      <a:pt x="641" y="1066"/>
                    </a:lnTo>
                    <a:lnTo>
                      <a:pt x="626" y="1053"/>
                    </a:lnTo>
                    <a:lnTo>
                      <a:pt x="606" y="1038"/>
                    </a:lnTo>
                    <a:lnTo>
                      <a:pt x="584" y="1021"/>
                    </a:lnTo>
                    <a:lnTo>
                      <a:pt x="561" y="1001"/>
                    </a:lnTo>
                    <a:lnTo>
                      <a:pt x="540" y="984"/>
                    </a:lnTo>
                    <a:lnTo>
                      <a:pt x="523" y="970"/>
                    </a:lnTo>
                    <a:lnTo>
                      <a:pt x="510" y="959"/>
                    </a:lnTo>
                    <a:lnTo>
                      <a:pt x="506" y="956"/>
                    </a:lnTo>
                    <a:lnTo>
                      <a:pt x="503" y="958"/>
                    </a:lnTo>
                    <a:lnTo>
                      <a:pt x="493" y="964"/>
                    </a:lnTo>
                    <a:lnTo>
                      <a:pt x="481" y="972"/>
                    </a:lnTo>
                    <a:lnTo>
                      <a:pt x="466" y="982"/>
                    </a:lnTo>
                    <a:lnTo>
                      <a:pt x="447" y="993"/>
                    </a:lnTo>
                    <a:lnTo>
                      <a:pt x="429" y="1006"/>
                    </a:lnTo>
                    <a:lnTo>
                      <a:pt x="410" y="1016"/>
                    </a:lnTo>
                    <a:lnTo>
                      <a:pt x="393" y="1027"/>
                    </a:lnTo>
                    <a:lnTo>
                      <a:pt x="379" y="918"/>
                    </a:lnTo>
                    <a:lnTo>
                      <a:pt x="361" y="815"/>
                    </a:lnTo>
                    <a:lnTo>
                      <a:pt x="339" y="714"/>
                    </a:lnTo>
                    <a:lnTo>
                      <a:pt x="316" y="619"/>
                    </a:lnTo>
                    <a:lnTo>
                      <a:pt x="290" y="531"/>
                    </a:lnTo>
                    <a:lnTo>
                      <a:pt x="262" y="446"/>
                    </a:lnTo>
                    <a:lnTo>
                      <a:pt x="234" y="369"/>
                    </a:lnTo>
                    <a:lnTo>
                      <a:pt x="205" y="298"/>
                    </a:lnTo>
                    <a:lnTo>
                      <a:pt x="177" y="234"/>
                    </a:lnTo>
                    <a:lnTo>
                      <a:pt x="151" y="177"/>
                    </a:lnTo>
                    <a:lnTo>
                      <a:pt x="127" y="127"/>
                    </a:lnTo>
                    <a:lnTo>
                      <a:pt x="105" y="84"/>
                    </a:lnTo>
                    <a:lnTo>
                      <a:pt x="87" y="50"/>
                    </a:lnTo>
                    <a:lnTo>
                      <a:pt x="73" y="24"/>
                    </a:lnTo>
                    <a:lnTo>
                      <a:pt x="62" y="7"/>
                    </a:lnTo>
                    <a:lnTo>
                      <a:pt x="57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a3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Freeform 24"/>
              <p:cNvSpPr/>
              <p:nvPr/>
            </p:nvSpPr>
            <p:spPr>
              <a:xfrm>
                <a:off x="6705360" y="3809880"/>
                <a:ext cx="1172880" cy="274680"/>
              </a:xfrm>
              <a:custGeom>
                <a:avLst/>
                <a:gdLst>
                  <a:gd name="textAreaLeft" fmla="*/ 0 w 1172880"/>
                  <a:gd name="textAreaRight" fmla="*/ 1173240 w 11728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478" h="347">
                    <a:moveTo>
                      <a:pt x="34" y="184"/>
                    </a:moveTo>
                    <a:lnTo>
                      <a:pt x="36" y="184"/>
                    </a:lnTo>
                    <a:lnTo>
                      <a:pt x="36" y="185"/>
                    </a:lnTo>
                    <a:lnTo>
                      <a:pt x="59" y="204"/>
                    </a:lnTo>
                    <a:lnTo>
                      <a:pt x="83" y="222"/>
                    </a:lnTo>
                    <a:lnTo>
                      <a:pt x="113" y="239"/>
                    </a:lnTo>
                    <a:lnTo>
                      <a:pt x="143" y="254"/>
                    </a:lnTo>
                    <a:lnTo>
                      <a:pt x="177" y="268"/>
                    </a:lnTo>
                    <a:lnTo>
                      <a:pt x="216" y="282"/>
                    </a:lnTo>
                    <a:lnTo>
                      <a:pt x="256" y="294"/>
                    </a:lnTo>
                    <a:lnTo>
                      <a:pt x="299" y="305"/>
                    </a:lnTo>
                    <a:lnTo>
                      <a:pt x="345" y="314"/>
                    </a:lnTo>
                    <a:lnTo>
                      <a:pt x="395" y="324"/>
                    </a:lnTo>
                    <a:lnTo>
                      <a:pt x="445" y="330"/>
                    </a:lnTo>
                    <a:lnTo>
                      <a:pt x="499" y="336"/>
                    </a:lnTo>
                    <a:lnTo>
                      <a:pt x="556" y="341"/>
                    </a:lnTo>
                    <a:lnTo>
                      <a:pt x="617" y="344"/>
                    </a:lnTo>
                    <a:lnTo>
                      <a:pt x="678" y="347"/>
                    </a:lnTo>
                    <a:lnTo>
                      <a:pt x="743" y="347"/>
                    </a:lnTo>
                    <a:lnTo>
                      <a:pt x="820" y="347"/>
                    </a:lnTo>
                    <a:lnTo>
                      <a:pt x="891" y="344"/>
                    </a:lnTo>
                    <a:lnTo>
                      <a:pt x="959" y="341"/>
                    </a:lnTo>
                    <a:lnTo>
                      <a:pt x="1020" y="338"/>
                    </a:lnTo>
                    <a:lnTo>
                      <a:pt x="1079" y="331"/>
                    </a:lnTo>
                    <a:lnTo>
                      <a:pt x="1133" y="325"/>
                    </a:lnTo>
                    <a:lnTo>
                      <a:pt x="1182" y="316"/>
                    </a:lnTo>
                    <a:lnTo>
                      <a:pt x="1227" y="307"/>
                    </a:lnTo>
                    <a:lnTo>
                      <a:pt x="1268" y="296"/>
                    </a:lnTo>
                    <a:lnTo>
                      <a:pt x="1305" y="284"/>
                    </a:lnTo>
                    <a:lnTo>
                      <a:pt x="1339" y="270"/>
                    </a:lnTo>
                    <a:lnTo>
                      <a:pt x="1370" y="254"/>
                    </a:lnTo>
                    <a:lnTo>
                      <a:pt x="1396" y="237"/>
                    </a:lnTo>
                    <a:lnTo>
                      <a:pt x="1419" y="221"/>
                    </a:lnTo>
                    <a:lnTo>
                      <a:pt x="1438" y="201"/>
                    </a:lnTo>
                    <a:lnTo>
                      <a:pt x="1455" y="179"/>
                    </a:lnTo>
                    <a:lnTo>
                      <a:pt x="1456" y="177"/>
                    </a:lnTo>
                    <a:lnTo>
                      <a:pt x="1456" y="176"/>
                    </a:lnTo>
                    <a:lnTo>
                      <a:pt x="1461" y="167"/>
                    </a:lnTo>
                    <a:lnTo>
                      <a:pt x="1469" y="145"/>
                    </a:lnTo>
                    <a:lnTo>
                      <a:pt x="1476" y="116"/>
                    </a:lnTo>
                    <a:lnTo>
                      <a:pt x="1478" y="80"/>
                    </a:lnTo>
                    <a:lnTo>
                      <a:pt x="1476" y="62"/>
                    </a:lnTo>
                    <a:lnTo>
                      <a:pt x="1472" y="42"/>
                    </a:lnTo>
                    <a:lnTo>
                      <a:pt x="1463" y="22"/>
                    </a:lnTo>
                    <a:lnTo>
                      <a:pt x="1450" y="3"/>
                    </a:lnTo>
                    <a:lnTo>
                      <a:pt x="1398" y="46"/>
                    </a:lnTo>
                    <a:lnTo>
                      <a:pt x="1404" y="56"/>
                    </a:lnTo>
                    <a:lnTo>
                      <a:pt x="1409" y="66"/>
                    </a:lnTo>
                    <a:lnTo>
                      <a:pt x="1412" y="77"/>
                    </a:lnTo>
                    <a:lnTo>
                      <a:pt x="1412" y="88"/>
                    </a:lnTo>
                    <a:lnTo>
                      <a:pt x="1410" y="107"/>
                    </a:lnTo>
                    <a:lnTo>
                      <a:pt x="1406" y="122"/>
                    </a:lnTo>
                    <a:lnTo>
                      <a:pt x="1401" y="134"/>
                    </a:lnTo>
                    <a:lnTo>
                      <a:pt x="1398" y="142"/>
                    </a:lnTo>
                    <a:lnTo>
                      <a:pt x="1384" y="159"/>
                    </a:lnTo>
                    <a:lnTo>
                      <a:pt x="1367" y="176"/>
                    </a:lnTo>
                    <a:lnTo>
                      <a:pt x="1347" y="190"/>
                    </a:lnTo>
                    <a:lnTo>
                      <a:pt x="1322" y="204"/>
                    </a:lnTo>
                    <a:lnTo>
                      <a:pt x="1296" y="216"/>
                    </a:lnTo>
                    <a:lnTo>
                      <a:pt x="1265" y="227"/>
                    </a:lnTo>
                    <a:lnTo>
                      <a:pt x="1230" y="237"/>
                    </a:lnTo>
                    <a:lnTo>
                      <a:pt x="1191" y="247"/>
                    </a:lnTo>
                    <a:lnTo>
                      <a:pt x="1150" y="254"/>
                    </a:lnTo>
                    <a:lnTo>
                      <a:pt x="1104" y="261"/>
                    </a:lnTo>
                    <a:lnTo>
                      <a:pt x="1054" y="267"/>
                    </a:lnTo>
                    <a:lnTo>
                      <a:pt x="1000" y="271"/>
                    </a:lnTo>
                    <a:lnTo>
                      <a:pt x="942" y="274"/>
                    </a:lnTo>
                    <a:lnTo>
                      <a:pt x="880" y="278"/>
                    </a:lnTo>
                    <a:lnTo>
                      <a:pt x="814" y="279"/>
                    </a:lnTo>
                    <a:lnTo>
                      <a:pt x="743" y="279"/>
                    </a:lnTo>
                    <a:lnTo>
                      <a:pt x="663" y="278"/>
                    </a:lnTo>
                    <a:lnTo>
                      <a:pt x="590" y="274"/>
                    </a:lnTo>
                    <a:lnTo>
                      <a:pt x="523" y="270"/>
                    </a:lnTo>
                    <a:lnTo>
                      <a:pt x="461" y="264"/>
                    </a:lnTo>
                    <a:lnTo>
                      <a:pt x="405" y="256"/>
                    </a:lnTo>
                    <a:lnTo>
                      <a:pt x="355" y="248"/>
                    </a:lnTo>
                    <a:lnTo>
                      <a:pt x="310" y="237"/>
                    </a:lnTo>
                    <a:lnTo>
                      <a:pt x="268" y="228"/>
                    </a:lnTo>
                    <a:lnTo>
                      <a:pt x="233" y="216"/>
                    </a:lnTo>
                    <a:lnTo>
                      <a:pt x="200" y="205"/>
                    </a:lnTo>
                    <a:lnTo>
                      <a:pt x="173" y="193"/>
                    </a:lnTo>
                    <a:lnTo>
                      <a:pt x="148" y="180"/>
                    </a:lnTo>
                    <a:lnTo>
                      <a:pt x="128" y="170"/>
                    </a:lnTo>
                    <a:lnTo>
                      <a:pt x="110" y="157"/>
                    </a:lnTo>
                    <a:lnTo>
                      <a:pt x="96" y="147"/>
                    </a:lnTo>
                    <a:lnTo>
                      <a:pt x="83" y="136"/>
                    </a:lnTo>
                    <a:lnTo>
                      <a:pt x="79" y="131"/>
                    </a:lnTo>
                    <a:lnTo>
                      <a:pt x="74" y="122"/>
                    </a:lnTo>
                    <a:lnTo>
                      <a:pt x="69" y="110"/>
                    </a:lnTo>
                    <a:lnTo>
                      <a:pt x="68" y="94"/>
                    </a:lnTo>
                    <a:lnTo>
                      <a:pt x="69" y="82"/>
                    </a:lnTo>
                    <a:lnTo>
                      <a:pt x="73" y="70"/>
                    </a:lnTo>
                    <a:lnTo>
                      <a:pt x="79" y="56"/>
                    </a:lnTo>
                    <a:lnTo>
                      <a:pt x="88" y="40"/>
                    </a:lnTo>
                    <a:lnTo>
                      <a:pt x="34" y="0"/>
                    </a:lnTo>
                    <a:lnTo>
                      <a:pt x="16" y="30"/>
                    </a:lnTo>
                    <a:lnTo>
                      <a:pt x="5" y="59"/>
                    </a:lnTo>
                    <a:lnTo>
                      <a:pt x="0" y="87"/>
                    </a:lnTo>
                    <a:lnTo>
                      <a:pt x="2" y="111"/>
                    </a:lnTo>
                    <a:lnTo>
                      <a:pt x="6" y="134"/>
                    </a:lnTo>
                    <a:lnTo>
                      <a:pt x="14" y="154"/>
                    </a:lnTo>
                    <a:lnTo>
                      <a:pt x="23" y="171"/>
                    </a:lnTo>
                    <a:lnTo>
                      <a:pt x="34" y="184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25"/>
              <p:cNvSpPr/>
              <p:nvPr/>
            </p:nvSpPr>
            <p:spPr>
              <a:xfrm>
                <a:off x="6922800" y="3516120"/>
                <a:ext cx="1033200" cy="138240"/>
              </a:xfrm>
              <a:custGeom>
                <a:avLst/>
                <a:gdLst>
                  <a:gd name="textAreaLeft" fmla="*/ 0 w 1033200"/>
                  <a:gd name="textAreaRight" fmla="*/ 1033560 w 103320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303" h="176">
                    <a:moveTo>
                      <a:pt x="0" y="150"/>
                    </a:moveTo>
                    <a:lnTo>
                      <a:pt x="62" y="176"/>
                    </a:lnTo>
                    <a:lnTo>
                      <a:pt x="67" y="170"/>
                    </a:lnTo>
                    <a:lnTo>
                      <a:pt x="74" y="162"/>
                    </a:lnTo>
                    <a:lnTo>
                      <a:pt x="85" y="154"/>
                    </a:lnTo>
                    <a:lnTo>
                      <a:pt x="101" y="147"/>
                    </a:lnTo>
                    <a:lnTo>
                      <a:pt x="121" y="137"/>
                    </a:lnTo>
                    <a:lnTo>
                      <a:pt x="144" y="128"/>
                    </a:lnTo>
                    <a:lnTo>
                      <a:pt x="170" y="119"/>
                    </a:lnTo>
                    <a:lnTo>
                      <a:pt x="202" y="110"/>
                    </a:lnTo>
                    <a:lnTo>
                      <a:pt x="239" y="100"/>
                    </a:lnTo>
                    <a:lnTo>
                      <a:pt x="279" y="93"/>
                    </a:lnTo>
                    <a:lnTo>
                      <a:pt x="326" y="85"/>
                    </a:lnTo>
                    <a:lnTo>
                      <a:pt x="376" y="79"/>
                    </a:lnTo>
                    <a:lnTo>
                      <a:pt x="432" y="74"/>
                    </a:lnTo>
                    <a:lnTo>
                      <a:pt x="492" y="70"/>
                    </a:lnTo>
                    <a:lnTo>
                      <a:pt x="558" y="66"/>
                    </a:lnTo>
                    <a:lnTo>
                      <a:pt x="631" y="66"/>
                    </a:lnTo>
                    <a:lnTo>
                      <a:pt x="723" y="68"/>
                    </a:lnTo>
                    <a:lnTo>
                      <a:pt x="805" y="73"/>
                    </a:lnTo>
                    <a:lnTo>
                      <a:pt x="879" y="77"/>
                    </a:lnTo>
                    <a:lnTo>
                      <a:pt x="945" y="83"/>
                    </a:lnTo>
                    <a:lnTo>
                      <a:pt x="1004" y="91"/>
                    </a:lnTo>
                    <a:lnTo>
                      <a:pt x="1055" y="99"/>
                    </a:lnTo>
                    <a:lnTo>
                      <a:pt x="1099" y="108"/>
                    </a:lnTo>
                    <a:lnTo>
                      <a:pt x="1136" y="117"/>
                    </a:lnTo>
                    <a:lnTo>
                      <a:pt x="1167" y="125"/>
                    </a:lnTo>
                    <a:lnTo>
                      <a:pt x="1193" y="134"/>
                    </a:lnTo>
                    <a:lnTo>
                      <a:pt x="1215" y="142"/>
                    </a:lnTo>
                    <a:lnTo>
                      <a:pt x="1230" y="150"/>
                    </a:lnTo>
                    <a:lnTo>
                      <a:pt x="1243" y="154"/>
                    </a:lnTo>
                    <a:lnTo>
                      <a:pt x="1250" y="159"/>
                    </a:lnTo>
                    <a:lnTo>
                      <a:pt x="1255" y="162"/>
                    </a:lnTo>
                    <a:lnTo>
                      <a:pt x="1256" y="164"/>
                    </a:lnTo>
                    <a:lnTo>
                      <a:pt x="1255" y="164"/>
                    </a:lnTo>
                    <a:lnTo>
                      <a:pt x="1303" y="116"/>
                    </a:lnTo>
                    <a:lnTo>
                      <a:pt x="1300" y="113"/>
                    </a:lnTo>
                    <a:lnTo>
                      <a:pt x="1293" y="108"/>
                    </a:lnTo>
                    <a:lnTo>
                      <a:pt x="1284" y="100"/>
                    </a:lnTo>
                    <a:lnTo>
                      <a:pt x="1270" y="93"/>
                    </a:lnTo>
                    <a:lnTo>
                      <a:pt x="1252" y="83"/>
                    </a:lnTo>
                    <a:lnTo>
                      <a:pt x="1230" y="74"/>
                    </a:lnTo>
                    <a:lnTo>
                      <a:pt x="1201" y="65"/>
                    </a:lnTo>
                    <a:lnTo>
                      <a:pt x="1169" y="54"/>
                    </a:lnTo>
                    <a:lnTo>
                      <a:pt x="1128" y="45"/>
                    </a:lnTo>
                    <a:lnTo>
                      <a:pt x="1081" y="34"/>
                    </a:lnTo>
                    <a:lnTo>
                      <a:pt x="1027" y="26"/>
                    </a:lnTo>
                    <a:lnTo>
                      <a:pt x="965" y="17"/>
                    </a:lnTo>
                    <a:lnTo>
                      <a:pt x="894" y="11"/>
                    </a:lnTo>
                    <a:lnTo>
                      <a:pt x="816" y="5"/>
                    </a:lnTo>
                    <a:lnTo>
                      <a:pt x="728" y="2"/>
                    </a:lnTo>
                    <a:lnTo>
                      <a:pt x="631" y="0"/>
                    </a:lnTo>
                    <a:lnTo>
                      <a:pt x="560" y="0"/>
                    </a:lnTo>
                    <a:lnTo>
                      <a:pt x="494" y="3"/>
                    </a:lnTo>
                    <a:lnTo>
                      <a:pt x="430" y="6"/>
                    </a:lnTo>
                    <a:lnTo>
                      <a:pt x="373" y="13"/>
                    </a:lnTo>
                    <a:lnTo>
                      <a:pt x="319" y="19"/>
                    </a:lnTo>
                    <a:lnTo>
                      <a:pt x="269" y="26"/>
                    </a:lnTo>
                    <a:lnTo>
                      <a:pt x="222" y="36"/>
                    </a:lnTo>
                    <a:lnTo>
                      <a:pt x="182" y="46"/>
                    </a:lnTo>
                    <a:lnTo>
                      <a:pt x="144" y="57"/>
                    </a:lnTo>
                    <a:lnTo>
                      <a:pt x="111" y="70"/>
                    </a:lnTo>
                    <a:lnTo>
                      <a:pt x="82" y="82"/>
                    </a:lnTo>
                    <a:lnTo>
                      <a:pt x="57" y="94"/>
                    </a:lnTo>
                    <a:lnTo>
                      <a:pt x="37" y="108"/>
                    </a:lnTo>
                    <a:lnTo>
                      <a:pt x="20" y="122"/>
                    </a:lnTo>
                    <a:lnTo>
                      <a:pt x="8" y="13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26"/>
              <p:cNvSpPr/>
              <p:nvPr/>
            </p:nvSpPr>
            <p:spPr>
              <a:xfrm>
                <a:off x="6553080" y="2209680"/>
                <a:ext cx="196560" cy="6238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623880"/>
                  <a:gd name="textAreaBottom" fmla="*/ 624240 h 623880"/>
                </a:gdLst>
                <a:ahLst/>
                <a:rect l="textAreaLeft" t="textAreaTop" r="textAreaRight" b="textAreaBottom"/>
                <a:pathLst>
                  <a:path w="248" h="786">
                    <a:moveTo>
                      <a:pt x="68" y="116"/>
                    </a:moveTo>
                    <a:lnTo>
                      <a:pt x="71" y="96"/>
                    </a:lnTo>
                    <a:lnTo>
                      <a:pt x="76" y="80"/>
                    </a:lnTo>
                    <a:lnTo>
                      <a:pt x="85" y="71"/>
                    </a:lnTo>
                    <a:lnTo>
                      <a:pt x="92" y="68"/>
                    </a:lnTo>
                    <a:lnTo>
                      <a:pt x="156" y="68"/>
                    </a:lnTo>
                    <a:lnTo>
                      <a:pt x="163" y="71"/>
                    </a:lnTo>
                    <a:lnTo>
                      <a:pt x="173" y="80"/>
                    </a:lnTo>
                    <a:lnTo>
                      <a:pt x="177" y="96"/>
                    </a:lnTo>
                    <a:lnTo>
                      <a:pt x="180" y="116"/>
                    </a:lnTo>
                    <a:lnTo>
                      <a:pt x="180" y="781"/>
                    </a:lnTo>
                    <a:lnTo>
                      <a:pt x="248" y="786"/>
                    </a:lnTo>
                    <a:lnTo>
                      <a:pt x="248" y="116"/>
                    </a:lnTo>
                    <a:lnTo>
                      <a:pt x="247" y="92"/>
                    </a:lnTo>
                    <a:lnTo>
                      <a:pt x="240" y="71"/>
                    </a:lnTo>
                    <a:lnTo>
                      <a:pt x="233" y="51"/>
                    </a:lnTo>
                    <a:lnTo>
                      <a:pt x="222" y="34"/>
                    </a:lnTo>
                    <a:lnTo>
                      <a:pt x="208" y="20"/>
                    </a:lnTo>
                    <a:lnTo>
                      <a:pt x="193" y="9"/>
                    </a:lnTo>
                    <a:lnTo>
                      <a:pt x="174" y="2"/>
                    </a:lnTo>
                    <a:lnTo>
                      <a:pt x="156" y="0"/>
                    </a:lnTo>
                    <a:lnTo>
                      <a:pt x="92" y="0"/>
                    </a:lnTo>
                    <a:lnTo>
                      <a:pt x="74" y="2"/>
                    </a:lnTo>
                    <a:lnTo>
                      <a:pt x="55" y="9"/>
                    </a:lnTo>
                    <a:lnTo>
                      <a:pt x="40" y="20"/>
                    </a:lnTo>
                    <a:lnTo>
                      <a:pt x="26" y="34"/>
                    </a:lnTo>
                    <a:lnTo>
                      <a:pt x="15" y="51"/>
                    </a:lnTo>
                    <a:lnTo>
                      <a:pt x="8" y="71"/>
                    </a:lnTo>
                    <a:lnTo>
                      <a:pt x="2" y="92"/>
                    </a:lnTo>
                    <a:lnTo>
                      <a:pt x="0" y="116"/>
                    </a:lnTo>
                    <a:lnTo>
                      <a:pt x="0" y="772"/>
                    </a:lnTo>
                    <a:lnTo>
                      <a:pt x="68" y="775"/>
                    </a:lnTo>
                    <a:lnTo>
                      <a:pt x="68" y="116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27"/>
              <p:cNvSpPr/>
              <p:nvPr/>
            </p:nvSpPr>
            <p:spPr>
              <a:xfrm>
                <a:off x="6553080" y="2822400"/>
                <a:ext cx="196560" cy="8794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248" h="1109">
                    <a:moveTo>
                      <a:pt x="180" y="9"/>
                    </a:moveTo>
                    <a:lnTo>
                      <a:pt x="180" y="995"/>
                    </a:lnTo>
                    <a:lnTo>
                      <a:pt x="177" y="1013"/>
                    </a:lnTo>
                    <a:lnTo>
                      <a:pt x="173" y="1029"/>
                    </a:lnTo>
                    <a:lnTo>
                      <a:pt x="163" y="1038"/>
                    </a:lnTo>
                    <a:lnTo>
                      <a:pt x="156" y="1041"/>
                    </a:lnTo>
                    <a:lnTo>
                      <a:pt x="92" y="1041"/>
                    </a:lnTo>
                    <a:lnTo>
                      <a:pt x="85" y="1038"/>
                    </a:lnTo>
                    <a:lnTo>
                      <a:pt x="76" y="1029"/>
                    </a:lnTo>
                    <a:lnTo>
                      <a:pt x="71" y="1013"/>
                    </a:lnTo>
                    <a:lnTo>
                      <a:pt x="68" y="995"/>
                    </a:lnTo>
                    <a:lnTo>
                      <a:pt x="68" y="3"/>
                    </a:lnTo>
                    <a:lnTo>
                      <a:pt x="0" y="0"/>
                    </a:lnTo>
                    <a:lnTo>
                      <a:pt x="0" y="995"/>
                    </a:lnTo>
                    <a:lnTo>
                      <a:pt x="2" y="1018"/>
                    </a:lnTo>
                    <a:lnTo>
                      <a:pt x="8" y="1040"/>
                    </a:lnTo>
                    <a:lnTo>
                      <a:pt x="15" y="1058"/>
                    </a:lnTo>
                    <a:lnTo>
                      <a:pt x="26" y="1075"/>
                    </a:lnTo>
                    <a:lnTo>
                      <a:pt x="40" y="1089"/>
                    </a:lnTo>
                    <a:lnTo>
                      <a:pt x="55" y="1100"/>
                    </a:lnTo>
                    <a:lnTo>
                      <a:pt x="74" y="1107"/>
                    </a:lnTo>
                    <a:lnTo>
                      <a:pt x="92" y="1109"/>
                    </a:lnTo>
                    <a:lnTo>
                      <a:pt x="156" y="1109"/>
                    </a:lnTo>
                    <a:lnTo>
                      <a:pt x="174" y="1107"/>
                    </a:lnTo>
                    <a:lnTo>
                      <a:pt x="193" y="1100"/>
                    </a:lnTo>
                    <a:lnTo>
                      <a:pt x="208" y="1089"/>
                    </a:lnTo>
                    <a:lnTo>
                      <a:pt x="222" y="1075"/>
                    </a:lnTo>
                    <a:lnTo>
                      <a:pt x="233" y="1058"/>
                    </a:lnTo>
                    <a:lnTo>
                      <a:pt x="240" y="1040"/>
                    </a:lnTo>
                    <a:lnTo>
                      <a:pt x="247" y="1018"/>
                    </a:lnTo>
                    <a:lnTo>
                      <a:pt x="248" y="995"/>
                    </a:lnTo>
                    <a:lnTo>
                      <a:pt x="248" y="14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28"/>
              <p:cNvSpPr/>
              <p:nvPr/>
            </p:nvSpPr>
            <p:spPr>
              <a:xfrm>
                <a:off x="6804000" y="3508200"/>
                <a:ext cx="158400" cy="14436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00" h="182">
                    <a:moveTo>
                      <a:pt x="200" y="0"/>
                    </a:moveTo>
                    <a:lnTo>
                      <a:pt x="166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8" y="68"/>
                    </a:lnTo>
                    <a:lnTo>
                      <a:pt x="37" y="68"/>
                    </a:lnTo>
                    <a:lnTo>
                      <a:pt x="55" y="68"/>
                    </a:lnTo>
                    <a:lnTo>
                      <a:pt x="74" y="68"/>
                    </a:lnTo>
                    <a:lnTo>
                      <a:pt x="91" y="68"/>
                    </a:lnTo>
                    <a:lnTo>
                      <a:pt x="106" y="68"/>
                    </a:lnTo>
                    <a:lnTo>
                      <a:pt x="120" y="68"/>
                    </a:lnTo>
                    <a:lnTo>
                      <a:pt x="132" y="68"/>
                    </a:lnTo>
                    <a:lnTo>
                      <a:pt x="132" y="80"/>
                    </a:lnTo>
                    <a:lnTo>
                      <a:pt x="132" y="91"/>
                    </a:lnTo>
                    <a:lnTo>
                      <a:pt x="132" y="102"/>
                    </a:lnTo>
                    <a:lnTo>
                      <a:pt x="132" y="114"/>
                    </a:lnTo>
                    <a:lnTo>
                      <a:pt x="120" y="114"/>
                    </a:lnTo>
                    <a:lnTo>
                      <a:pt x="106" y="114"/>
                    </a:lnTo>
                    <a:lnTo>
                      <a:pt x="91" y="114"/>
                    </a:lnTo>
                    <a:lnTo>
                      <a:pt x="74" y="114"/>
                    </a:lnTo>
                    <a:lnTo>
                      <a:pt x="55" y="114"/>
                    </a:lnTo>
                    <a:lnTo>
                      <a:pt x="37" y="114"/>
                    </a:lnTo>
                    <a:lnTo>
                      <a:pt x="18" y="114"/>
                    </a:lnTo>
                    <a:lnTo>
                      <a:pt x="0" y="114"/>
                    </a:lnTo>
                    <a:lnTo>
                      <a:pt x="0" y="182"/>
                    </a:lnTo>
                    <a:lnTo>
                      <a:pt x="200" y="182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29"/>
              <p:cNvSpPr/>
              <p:nvPr/>
            </p:nvSpPr>
            <p:spPr>
              <a:xfrm>
                <a:off x="6700680" y="3508200"/>
                <a:ext cx="102960" cy="1443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30" h="182">
                    <a:moveTo>
                      <a:pt x="68" y="114"/>
                    </a:moveTo>
                    <a:lnTo>
                      <a:pt x="68" y="102"/>
                    </a:lnTo>
                    <a:lnTo>
                      <a:pt x="68" y="91"/>
                    </a:lnTo>
                    <a:lnTo>
                      <a:pt x="68" y="80"/>
                    </a:lnTo>
                    <a:lnTo>
                      <a:pt x="68" y="68"/>
                    </a:lnTo>
                    <a:lnTo>
                      <a:pt x="74" y="68"/>
                    </a:lnTo>
                    <a:lnTo>
                      <a:pt x="81" y="68"/>
                    </a:lnTo>
                    <a:lnTo>
                      <a:pt x="87" y="68"/>
                    </a:lnTo>
                    <a:lnTo>
                      <a:pt x="94" y="68"/>
                    </a:lnTo>
                    <a:lnTo>
                      <a:pt x="104" y="68"/>
                    </a:lnTo>
                    <a:lnTo>
                      <a:pt x="111" y="68"/>
                    </a:lnTo>
                    <a:lnTo>
                      <a:pt x="121" y="68"/>
                    </a:lnTo>
                    <a:lnTo>
                      <a:pt x="130" y="68"/>
                    </a:lnTo>
                    <a:lnTo>
                      <a:pt x="130" y="0"/>
                    </a:lnTo>
                    <a:lnTo>
                      <a:pt x="0" y="0"/>
                    </a:lnTo>
                    <a:lnTo>
                      <a:pt x="0" y="182"/>
                    </a:lnTo>
                    <a:lnTo>
                      <a:pt x="130" y="182"/>
                    </a:lnTo>
                    <a:lnTo>
                      <a:pt x="130" y="114"/>
                    </a:lnTo>
                    <a:lnTo>
                      <a:pt x="121" y="114"/>
                    </a:lnTo>
                    <a:lnTo>
                      <a:pt x="111" y="114"/>
                    </a:lnTo>
                    <a:lnTo>
                      <a:pt x="104" y="114"/>
                    </a:lnTo>
                    <a:lnTo>
                      <a:pt x="94" y="114"/>
                    </a:lnTo>
                    <a:lnTo>
                      <a:pt x="87" y="114"/>
                    </a:lnTo>
                    <a:lnTo>
                      <a:pt x="81" y="114"/>
                    </a:lnTo>
                    <a:lnTo>
                      <a:pt x="74" y="114"/>
                    </a:lnTo>
                    <a:lnTo>
                      <a:pt x="68" y="114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30"/>
              <p:cNvSpPr/>
              <p:nvPr/>
            </p:nvSpPr>
            <p:spPr>
              <a:xfrm>
                <a:off x="7162560" y="4267080"/>
                <a:ext cx="156960" cy="446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99" h="562">
                    <a:moveTo>
                      <a:pt x="0" y="39"/>
                    </a:moveTo>
                    <a:lnTo>
                      <a:pt x="4" y="48"/>
                    </a:lnTo>
                    <a:lnTo>
                      <a:pt x="18" y="72"/>
                    </a:lnTo>
                    <a:lnTo>
                      <a:pt x="38" y="114"/>
                    </a:lnTo>
                    <a:lnTo>
                      <a:pt x="60" y="171"/>
                    </a:lnTo>
                    <a:lnTo>
                      <a:pt x="83" y="243"/>
                    </a:lnTo>
                    <a:lnTo>
                      <a:pt x="105" y="333"/>
                    </a:lnTo>
                    <a:lnTo>
                      <a:pt x="122" y="439"/>
                    </a:lnTo>
                    <a:lnTo>
                      <a:pt x="132" y="562"/>
                    </a:lnTo>
                    <a:lnTo>
                      <a:pt x="199" y="559"/>
                    </a:lnTo>
                    <a:lnTo>
                      <a:pt x="188" y="428"/>
                    </a:lnTo>
                    <a:lnTo>
                      <a:pt x="169" y="316"/>
                    </a:lnTo>
                    <a:lnTo>
                      <a:pt x="148" y="222"/>
                    </a:lnTo>
                    <a:lnTo>
                      <a:pt x="123" y="143"/>
                    </a:lnTo>
                    <a:lnTo>
                      <a:pt x="98" y="83"/>
                    </a:lnTo>
                    <a:lnTo>
                      <a:pt x="77" y="39"/>
                    </a:lnTo>
                    <a:lnTo>
                      <a:pt x="61" y="11"/>
                    </a:lnTo>
                    <a:lnTo>
                      <a:pt x="55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3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31"/>
              <p:cNvSpPr/>
              <p:nvPr/>
            </p:nvSpPr>
            <p:spPr>
              <a:xfrm>
                <a:off x="7467480" y="4267080"/>
                <a:ext cx="114120" cy="4539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43" h="571">
                    <a:moveTo>
                      <a:pt x="0" y="32"/>
                    </a:moveTo>
                    <a:lnTo>
                      <a:pt x="4" y="41"/>
                    </a:lnTo>
                    <a:lnTo>
                      <a:pt x="14" y="68"/>
                    </a:lnTo>
                    <a:lnTo>
                      <a:pt x="29" y="109"/>
                    </a:lnTo>
                    <a:lnTo>
                      <a:pt x="45" y="169"/>
                    </a:lnTo>
                    <a:lnTo>
                      <a:pt x="60" y="245"/>
                    </a:lnTo>
                    <a:lnTo>
                      <a:pt x="71" y="336"/>
                    </a:lnTo>
                    <a:lnTo>
                      <a:pt x="75" y="444"/>
                    </a:lnTo>
                    <a:lnTo>
                      <a:pt x="72" y="567"/>
                    </a:lnTo>
                    <a:lnTo>
                      <a:pt x="140" y="571"/>
                    </a:lnTo>
                    <a:lnTo>
                      <a:pt x="143" y="440"/>
                    </a:lnTo>
                    <a:lnTo>
                      <a:pt x="139" y="326"/>
                    </a:lnTo>
                    <a:lnTo>
                      <a:pt x="126" y="229"/>
                    </a:lnTo>
                    <a:lnTo>
                      <a:pt x="111" y="149"/>
                    </a:lnTo>
                    <a:lnTo>
                      <a:pt x="92" y="86"/>
                    </a:lnTo>
                    <a:lnTo>
                      <a:pt x="77" y="40"/>
                    </a:lnTo>
                    <a:lnTo>
                      <a:pt x="65" y="11"/>
                    </a:lnTo>
                    <a:lnTo>
                      <a:pt x="5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3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32"/>
              <p:cNvSpPr/>
              <p:nvPr/>
            </p:nvSpPr>
            <p:spPr>
              <a:xfrm>
                <a:off x="6873840" y="3438360"/>
                <a:ext cx="966240" cy="293760"/>
              </a:xfrm>
              <a:custGeom>
                <a:avLst/>
                <a:gdLst>
                  <a:gd name="textAreaLeft" fmla="*/ 0 w 966240"/>
                  <a:gd name="textAreaRight" fmla="*/ 966240 w 96624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217" h="370">
                    <a:moveTo>
                      <a:pt x="1049" y="282"/>
                    </a:moveTo>
                    <a:lnTo>
                      <a:pt x="1031" y="285"/>
                    </a:lnTo>
                    <a:lnTo>
                      <a:pt x="1011" y="287"/>
                    </a:lnTo>
                    <a:lnTo>
                      <a:pt x="992" y="290"/>
                    </a:lnTo>
                    <a:lnTo>
                      <a:pt x="972" y="291"/>
                    </a:lnTo>
                    <a:lnTo>
                      <a:pt x="952" y="293"/>
                    </a:lnTo>
                    <a:lnTo>
                      <a:pt x="932" y="294"/>
                    </a:lnTo>
                    <a:lnTo>
                      <a:pt x="911" y="296"/>
                    </a:lnTo>
                    <a:lnTo>
                      <a:pt x="891" y="298"/>
                    </a:lnTo>
                    <a:lnTo>
                      <a:pt x="869" y="299"/>
                    </a:lnTo>
                    <a:lnTo>
                      <a:pt x="849" y="299"/>
                    </a:lnTo>
                    <a:lnTo>
                      <a:pt x="827" y="301"/>
                    </a:lnTo>
                    <a:lnTo>
                      <a:pt x="806" y="301"/>
                    </a:lnTo>
                    <a:lnTo>
                      <a:pt x="784" y="302"/>
                    </a:lnTo>
                    <a:lnTo>
                      <a:pt x="763" y="302"/>
                    </a:lnTo>
                    <a:lnTo>
                      <a:pt x="739" y="302"/>
                    </a:lnTo>
                    <a:lnTo>
                      <a:pt x="718" y="302"/>
                    </a:lnTo>
                    <a:lnTo>
                      <a:pt x="684" y="302"/>
                    </a:lnTo>
                    <a:lnTo>
                      <a:pt x="650" y="302"/>
                    </a:lnTo>
                    <a:lnTo>
                      <a:pt x="618" y="301"/>
                    </a:lnTo>
                    <a:lnTo>
                      <a:pt x="584" y="299"/>
                    </a:lnTo>
                    <a:lnTo>
                      <a:pt x="553" y="298"/>
                    </a:lnTo>
                    <a:lnTo>
                      <a:pt x="521" y="296"/>
                    </a:lnTo>
                    <a:lnTo>
                      <a:pt x="490" y="293"/>
                    </a:lnTo>
                    <a:lnTo>
                      <a:pt x="459" y="291"/>
                    </a:lnTo>
                    <a:lnTo>
                      <a:pt x="430" y="288"/>
                    </a:lnTo>
                    <a:lnTo>
                      <a:pt x="400" y="285"/>
                    </a:lnTo>
                    <a:lnTo>
                      <a:pt x="371" y="281"/>
                    </a:lnTo>
                    <a:lnTo>
                      <a:pt x="343" y="277"/>
                    </a:lnTo>
                    <a:lnTo>
                      <a:pt x="317" y="273"/>
                    </a:lnTo>
                    <a:lnTo>
                      <a:pt x="291" y="268"/>
                    </a:lnTo>
                    <a:lnTo>
                      <a:pt x="266" y="264"/>
                    </a:lnTo>
                    <a:lnTo>
                      <a:pt x="242" y="259"/>
                    </a:lnTo>
                    <a:lnTo>
                      <a:pt x="192" y="247"/>
                    </a:lnTo>
                    <a:lnTo>
                      <a:pt x="154" y="234"/>
                    </a:lnTo>
                    <a:lnTo>
                      <a:pt x="123" y="224"/>
                    </a:lnTo>
                    <a:lnTo>
                      <a:pt x="101" y="211"/>
                    </a:lnTo>
                    <a:lnTo>
                      <a:pt x="85" y="202"/>
                    </a:lnTo>
                    <a:lnTo>
                      <a:pt x="75" y="194"/>
                    </a:lnTo>
                    <a:lnTo>
                      <a:pt x="69" y="188"/>
                    </a:lnTo>
                    <a:lnTo>
                      <a:pt x="68" y="184"/>
                    </a:lnTo>
                    <a:lnTo>
                      <a:pt x="69" y="179"/>
                    </a:lnTo>
                    <a:lnTo>
                      <a:pt x="75" y="173"/>
                    </a:lnTo>
                    <a:lnTo>
                      <a:pt x="85" y="165"/>
                    </a:lnTo>
                    <a:lnTo>
                      <a:pt x="101" y="154"/>
                    </a:lnTo>
                    <a:lnTo>
                      <a:pt x="123" y="143"/>
                    </a:lnTo>
                    <a:lnTo>
                      <a:pt x="154" y="133"/>
                    </a:lnTo>
                    <a:lnTo>
                      <a:pt x="192" y="120"/>
                    </a:lnTo>
                    <a:lnTo>
                      <a:pt x="242" y="108"/>
                    </a:lnTo>
                    <a:lnTo>
                      <a:pt x="262" y="103"/>
                    </a:lnTo>
                    <a:lnTo>
                      <a:pt x="283" y="100"/>
                    </a:lnTo>
                    <a:lnTo>
                      <a:pt x="305" y="96"/>
                    </a:lnTo>
                    <a:lnTo>
                      <a:pt x="328" y="93"/>
                    </a:lnTo>
                    <a:lnTo>
                      <a:pt x="351" y="88"/>
                    </a:lnTo>
                    <a:lnTo>
                      <a:pt x="374" y="85"/>
                    </a:lnTo>
                    <a:lnTo>
                      <a:pt x="399" y="82"/>
                    </a:lnTo>
                    <a:lnTo>
                      <a:pt x="424" y="80"/>
                    </a:lnTo>
                    <a:lnTo>
                      <a:pt x="450" y="77"/>
                    </a:lnTo>
                    <a:lnTo>
                      <a:pt x="474" y="74"/>
                    </a:lnTo>
                    <a:lnTo>
                      <a:pt x="501" y="73"/>
                    </a:lnTo>
                    <a:lnTo>
                      <a:pt x="527" y="71"/>
                    </a:lnTo>
                    <a:lnTo>
                      <a:pt x="555" y="70"/>
                    </a:lnTo>
                    <a:lnTo>
                      <a:pt x="581" y="68"/>
                    </a:lnTo>
                    <a:lnTo>
                      <a:pt x="608" y="66"/>
                    </a:lnTo>
                    <a:lnTo>
                      <a:pt x="636" y="66"/>
                    </a:lnTo>
                    <a:lnTo>
                      <a:pt x="630" y="59"/>
                    </a:lnTo>
                    <a:lnTo>
                      <a:pt x="622" y="49"/>
                    </a:lnTo>
                    <a:lnTo>
                      <a:pt x="616" y="42"/>
                    </a:lnTo>
                    <a:lnTo>
                      <a:pt x="610" y="34"/>
                    </a:lnTo>
                    <a:lnTo>
                      <a:pt x="604" y="26"/>
                    </a:lnTo>
                    <a:lnTo>
                      <a:pt x="599" y="17"/>
                    </a:lnTo>
                    <a:lnTo>
                      <a:pt x="593" y="9"/>
                    </a:lnTo>
                    <a:lnTo>
                      <a:pt x="588" y="0"/>
                    </a:lnTo>
                    <a:lnTo>
                      <a:pt x="541" y="3"/>
                    </a:lnTo>
                    <a:lnTo>
                      <a:pt x="491" y="6"/>
                    </a:lnTo>
                    <a:lnTo>
                      <a:pt x="441" y="11"/>
                    </a:lnTo>
                    <a:lnTo>
                      <a:pt x="390" y="17"/>
                    </a:lnTo>
                    <a:lnTo>
                      <a:pt x="340" y="23"/>
                    </a:lnTo>
                    <a:lnTo>
                      <a:pt x="291" y="31"/>
                    </a:lnTo>
                    <a:lnTo>
                      <a:pt x="245" y="40"/>
                    </a:lnTo>
                    <a:lnTo>
                      <a:pt x="200" y="49"/>
                    </a:lnTo>
                    <a:lnTo>
                      <a:pt x="157" y="62"/>
                    </a:lnTo>
                    <a:lnTo>
                      <a:pt x="120" y="74"/>
                    </a:lnTo>
                    <a:lnTo>
                      <a:pt x="86" y="88"/>
                    </a:lnTo>
                    <a:lnTo>
                      <a:pt x="57" y="103"/>
                    </a:lnTo>
                    <a:lnTo>
                      <a:pt x="32" y="122"/>
                    </a:lnTo>
                    <a:lnTo>
                      <a:pt x="15" y="140"/>
                    </a:lnTo>
                    <a:lnTo>
                      <a:pt x="3" y="160"/>
                    </a:lnTo>
                    <a:lnTo>
                      <a:pt x="0" y="184"/>
                    </a:lnTo>
                    <a:lnTo>
                      <a:pt x="4" y="210"/>
                    </a:lnTo>
                    <a:lnTo>
                      <a:pt x="20" y="234"/>
                    </a:lnTo>
                    <a:lnTo>
                      <a:pt x="44" y="256"/>
                    </a:lnTo>
                    <a:lnTo>
                      <a:pt x="77" y="274"/>
                    </a:lnTo>
                    <a:lnTo>
                      <a:pt x="117" y="293"/>
                    </a:lnTo>
                    <a:lnTo>
                      <a:pt x="162" y="307"/>
                    </a:lnTo>
                    <a:lnTo>
                      <a:pt x="212" y="321"/>
                    </a:lnTo>
                    <a:lnTo>
                      <a:pt x="266" y="331"/>
                    </a:lnTo>
                    <a:lnTo>
                      <a:pt x="323" y="342"/>
                    </a:lnTo>
                    <a:lnTo>
                      <a:pt x="382" y="350"/>
                    </a:lnTo>
                    <a:lnTo>
                      <a:pt x="442" y="356"/>
                    </a:lnTo>
                    <a:lnTo>
                      <a:pt x="501" y="362"/>
                    </a:lnTo>
                    <a:lnTo>
                      <a:pt x="559" y="365"/>
                    </a:lnTo>
                    <a:lnTo>
                      <a:pt x="616" y="368"/>
                    </a:lnTo>
                    <a:lnTo>
                      <a:pt x="669" y="370"/>
                    </a:lnTo>
                    <a:lnTo>
                      <a:pt x="718" y="370"/>
                    </a:lnTo>
                    <a:lnTo>
                      <a:pt x="744" y="370"/>
                    </a:lnTo>
                    <a:lnTo>
                      <a:pt x="772" y="370"/>
                    </a:lnTo>
                    <a:lnTo>
                      <a:pt x="801" y="368"/>
                    </a:lnTo>
                    <a:lnTo>
                      <a:pt x="832" y="367"/>
                    </a:lnTo>
                    <a:lnTo>
                      <a:pt x="863" y="365"/>
                    </a:lnTo>
                    <a:lnTo>
                      <a:pt x="895" y="364"/>
                    </a:lnTo>
                    <a:lnTo>
                      <a:pt x="927" y="362"/>
                    </a:lnTo>
                    <a:lnTo>
                      <a:pt x="961" y="359"/>
                    </a:lnTo>
                    <a:lnTo>
                      <a:pt x="994" y="356"/>
                    </a:lnTo>
                    <a:lnTo>
                      <a:pt x="1028" y="353"/>
                    </a:lnTo>
                    <a:lnTo>
                      <a:pt x="1060" y="348"/>
                    </a:lnTo>
                    <a:lnTo>
                      <a:pt x="1092" y="345"/>
                    </a:lnTo>
                    <a:lnTo>
                      <a:pt x="1125" y="339"/>
                    </a:lnTo>
                    <a:lnTo>
                      <a:pt x="1157" y="334"/>
                    </a:lnTo>
                    <a:lnTo>
                      <a:pt x="1188" y="328"/>
                    </a:lnTo>
                    <a:lnTo>
                      <a:pt x="1217" y="322"/>
                    </a:lnTo>
                    <a:lnTo>
                      <a:pt x="1197" y="318"/>
                    </a:lnTo>
                    <a:lnTo>
                      <a:pt x="1176" y="314"/>
                    </a:lnTo>
                    <a:lnTo>
                      <a:pt x="1156" y="310"/>
                    </a:lnTo>
                    <a:lnTo>
                      <a:pt x="1134" y="304"/>
                    </a:lnTo>
                    <a:lnTo>
                      <a:pt x="1114" y="299"/>
                    </a:lnTo>
                    <a:lnTo>
                      <a:pt x="1092" y="294"/>
                    </a:lnTo>
                    <a:lnTo>
                      <a:pt x="1071" y="288"/>
                    </a:lnTo>
                    <a:lnTo>
                      <a:pt x="1049" y="282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33"/>
              <p:cNvSpPr/>
              <p:nvPr/>
            </p:nvSpPr>
            <p:spPr>
              <a:xfrm>
                <a:off x="7340400" y="3436920"/>
                <a:ext cx="672840" cy="25704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848" h="325">
                    <a:moveTo>
                      <a:pt x="130" y="68"/>
                    </a:moveTo>
                    <a:lnTo>
                      <a:pt x="164" y="68"/>
                    </a:lnTo>
                    <a:lnTo>
                      <a:pt x="198" y="68"/>
                    </a:lnTo>
                    <a:lnTo>
                      <a:pt x="230" y="69"/>
                    </a:lnTo>
                    <a:lnTo>
                      <a:pt x="262" y="71"/>
                    </a:lnTo>
                    <a:lnTo>
                      <a:pt x="295" y="73"/>
                    </a:lnTo>
                    <a:lnTo>
                      <a:pt x="327" y="74"/>
                    </a:lnTo>
                    <a:lnTo>
                      <a:pt x="358" y="77"/>
                    </a:lnTo>
                    <a:lnTo>
                      <a:pt x="389" y="79"/>
                    </a:lnTo>
                    <a:lnTo>
                      <a:pt x="418" y="82"/>
                    </a:lnTo>
                    <a:lnTo>
                      <a:pt x="447" y="85"/>
                    </a:lnTo>
                    <a:lnTo>
                      <a:pt x="477" y="89"/>
                    </a:lnTo>
                    <a:lnTo>
                      <a:pt x="504" y="93"/>
                    </a:lnTo>
                    <a:lnTo>
                      <a:pt x="531" y="97"/>
                    </a:lnTo>
                    <a:lnTo>
                      <a:pt x="557" y="102"/>
                    </a:lnTo>
                    <a:lnTo>
                      <a:pt x="581" y="106"/>
                    </a:lnTo>
                    <a:lnTo>
                      <a:pt x="606" y="111"/>
                    </a:lnTo>
                    <a:lnTo>
                      <a:pt x="655" y="123"/>
                    </a:lnTo>
                    <a:lnTo>
                      <a:pt x="694" y="136"/>
                    </a:lnTo>
                    <a:lnTo>
                      <a:pt x="725" y="146"/>
                    </a:lnTo>
                    <a:lnTo>
                      <a:pt x="746" y="157"/>
                    </a:lnTo>
                    <a:lnTo>
                      <a:pt x="763" y="168"/>
                    </a:lnTo>
                    <a:lnTo>
                      <a:pt x="773" y="176"/>
                    </a:lnTo>
                    <a:lnTo>
                      <a:pt x="779" y="182"/>
                    </a:lnTo>
                    <a:lnTo>
                      <a:pt x="780" y="187"/>
                    </a:lnTo>
                    <a:lnTo>
                      <a:pt x="779" y="191"/>
                    </a:lnTo>
                    <a:lnTo>
                      <a:pt x="773" y="197"/>
                    </a:lnTo>
                    <a:lnTo>
                      <a:pt x="763" y="205"/>
                    </a:lnTo>
                    <a:lnTo>
                      <a:pt x="746" y="214"/>
                    </a:lnTo>
                    <a:lnTo>
                      <a:pt x="725" y="227"/>
                    </a:lnTo>
                    <a:lnTo>
                      <a:pt x="694" y="237"/>
                    </a:lnTo>
                    <a:lnTo>
                      <a:pt x="655" y="250"/>
                    </a:lnTo>
                    <a:lnTo>
                      <a:pt x="606" y="262"/>
                    </a:lnTo>
                    <a:lnTo>
                      <a:pt x="589" y="265"/>
                    </a:lnTo>
                    <a:lnTo>
                      <a:pt x="572" y="268"/>
                    </a:lnTo>
                    <a:lnTo>
                      <a:pt x="555" y="271"/>
                    </a:lnTo>
                    <a:lnTo>
                      <a:pt x="537" y="274"/>
                    </a:lnTo>
                    <a:lnTo>
                      <a:pt x="518" y="277"/>
                    </a:lnTo>
                    <a:lnTo>
                      <a:pt x="500" y="280"/>
                    </a:lnTo>
                    <a:lnTo>
                      <a:pt x="481" y="282"/>
                    </a:lnTo>
                    <a:lnTo>
                      <a:pt x="461" y="285"/>
                    </a:lnTo>
                    <a:lnTo>
                      <a:pt x="483" y="291"/>
                    </a:lnTo>
                    <a:lnTo>
                      <a:pt x="504" y="297"/>
                    </a:lnTo>
                    <a:lnTo>
                      <a:pt x="526" y="302"/>
                    </a:lnTo>
                    <a:lnTo>
                      <a:pt x="546" y="307"/>
                    </a:lnTo>
                    <a:lnTo>
                      <a:pt x="568" y="313"/>
                    </a:lnTo>
                    <a:lnTo>
                      <a:pt x="588" y="317"/>
                    </a:lnTo>
                    <a:lnTo>
                      <a:pt x="609" y="321"/>
                    </a:lnTo>
                    <a:lnTo>
                      <a:pt x="629" y="325"/>
                    </a:lnTo>
                    <a:lnTo>
                      <a:pt x="675" y="313"/>
                    </a:lnTo>
                    <a:lnTo>
                      <a:pt x="717" y="301"/>
                    </a:lnTo>
                    <a:lnTo>
                      <a:pt x="754" y="287"/>
                    </a:lnTo>
                    <a:lnTo>
                      <a:pt x="786" y="270"/>
                    </a:lnTo>
                    <a:lnTo>
                      <a:pt x="813" y="251"/>
                    </a:lnTo>
                    <a:lnTo>
                      <a:pt x="831" y="233"/>
                    </a:lnTo>
                    <a:lnTo>
                      <a:pt x="843" y="210"/>
                    </a:lnTo>
                    <a:lnTo>
                      <a:pt x="848" y="187"/>
                    </a:lnTo>
                    <a:lnTo>
                      <a:pt x="843" y="160"/>
                    </a:lnTo>
                    <a:lnTo>
                      <a:pt x="828" y="136"/>
                    </a:lnTo>
                    <a:lnTo>
                      <a:pt x="803" y="114"/>
                    </a:lnTo>
                    <a:lnTo>
                      <a:pt x="771" y="96"/>
                    </a:lnTo>
                    <a:lnTo>
                      <a:pt x="731" y="77"/>
                    </a:lnTo>
                    <a:lnTo>
                      <a:pt x="686" y="63"/>
                    </a:lnTo>
                    <a:lnTo>
                      <a:pt x="635" y="49"/>
                    </a:lnTo>
                    <a:lnTo>
                      <a:pt x="581" y="37"/>
                    </a:lnTo>
                    <a:lnTo>
                      <a:pt x="524" y="28"/>
                    </a:lnTo>
                    <a:lnTo>
                      <a:pt x="466" y="20"/>
                    </a:lnTo>
                    <a:lnTo>
                      <a:pt x="406" y="14"/>
                    </a:lnTo>
                    <a:lnTo>
                      <a:pt x="347" y="8"/>
                    </a:lnTo>
                    <a:lnTo>
                      <a:pt x="289" y="5"/>
                    </a:lnTo>
                    <a:lnTo>
                      <a:pt x="232" y="2"/>
                    </a:lnTo>
                    <a:lnTo>
                      <a:pt x="179" y="0"/>
                    </a:lnTo>
                    <a:lnTo>
                      <a:pt x="130" y="0"/>
                    </a:lnTo>
                    <a:lnTo>
                      <a:pt x="114" y="0"/>
                    </a:lnTo>
                    <a:lnTo>
                      <a:pt x="101" y="0"/>
                    </a:lnTo>
                    <a:lnTo>
                      <a:pt x="84" y="0"/>
                    </a:lnTo>
                    <a:lnTo>
                      <a:pt x="68" y="2"/>
                    </a:lnTo>
                    <a:lnTo>
                      <a:pt x="51" y="2"/>
                    </a:lnTo>
                    <a:lnTo>
                      <a:pt x="34" y="2"/>
                    </a:lnTo>
                    <a:lnTo>
                      <a:pt x="17" y="3"/>
                    </a:lnTo>
                    <a:lnTo>
                      <a:pt x="0" y="3"/>
                    </a:lnTo>
                    <a:lnTo>
                      <a:pt x="5" y="12"/>
                    </a:lnTo>
                    <a:lnTo>
                      <a:pt x="11" y="20"/>
                    </a:lnTo>
                    <a:lnTo>
                      <a:pt x="16" y="29"/>
                    </a:lnTo>
                    <a:lnTo>
                      <a:pt x="22" y="37"/>
                    </a:lnTo>
                    <a:lnTo>
                      <a:pt x="28" y="45"/>
                    </a:lnTo>
                    <a:lnTo>
                      <a:pt x="34" y="52"/>
                    </a:lnTo>
                    <a:lnTo>
                      <a:pt x="42" y="62"/>
                    </a:lnTo>
                    <a:lnTo>
                      <a:pt x="48" y="69"/>
                    </a:lnTo>
                    <a:lnTo>
                      <a:pt x="57" y="69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88" y="68"/>
                    </a:lnTo>
                    <a:lnTo>
                      <a:pt x="99" y="68"/>
                    </a:lnTo>
                    <a:lnTo>
                      <a:pt x="110" y="68"/>
                    </a:lnTo>
                    <a:lnTo>
                      <a:pt x="119" y="68"/>
                    </a:lnTo>
                    <a:lnTo>
                      <a:pt x="130" y="68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34"/>
              <p:cNvSpPr/>
              <p:nvPr/>
            </p:nvSpPr>
            <p:spPr>
              <a:xfrm>
                <a:off x="7086600" y="1600200"/>
                <a:ext cx="1018800" cy="1019160"/>
              </a:xfrm>
              <a:custGeom>
                <a:avLst/>
                <a:gdLst>
                  <a:gd name="textAreaLeft" fmla="*/ 0 w 1018800"/>
                  <a:gd name="textAreaRight" fmla="*/ 1019160 w 101880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1285" h="1285">
                    <a:moveTo>
                      <a:pt x="1285" y="642"/>
                    </a:moveTo>
                    <a:lnTo>
                      <a:pt x="1282" y="709"/>
                    </a:lnTo>
                    <a:lnTo>
                      <a:pt x="1273" y="772"/>
                    </a:lnTo>
                    <a:lnTo>
                      <a:pt x="1256" y="833"/>
                    </a:lnTo>
                    <a:lnTo>
                      <a:pt x="1235" y="892"/>
                    </a:lnTo>
                    <a:lnTo>
                      <a:pt x="1208" y="949"/>
                    </a:lnTo>
                    <a:lnTo>
                      <a:pt x="1176" y="1001"/>
                    </a:lnTo>
                    <a:lnTo>
                      <a:pt x="1139" y="1051"/>
                    </a:lnTo>
                    <a:lnTo>
                      <a:pt x="1097" y="1097"/>
                    </a:lnTo>
                    <a:lnTo>
                      <a:pt x="1051" y="1138"/>
                    </a:lnTo>
                    <a:lnTo>
                      <a:pt x="1002" y="1175"/>
                    </a:lnTo>
                    <a:lnTo>
                      <a:pt x="949" y="1208"/>
                    </a:lnTo>
                    <a:lnTo>
                      <a:pt x="892" y="1234"/>
                    </a:lnTo>
                    <a:lnTo>
                      <a:pt x="834" y="1255"/>
                    </a:lnTo>
                    <a:lnTo>
                      <a:pt x="772" y="1272"/>
                    </a:lnTo>
                    <a:lnTo>
                      <a:pt x="709" y="1282"/>
                    </a:lnTo>
                    <a:lnTo>
                      <a:pt x="643" y="1285"/>
                    </a:lnTo>
                    <a:lnTo>
                      <a:pt x="577" y="1282"/>
                    </a:lnTo>
                    <a:lnTo>
                      <a:pt x="513" y="1272"/>
                    </a:lnTo>
                    <a:lnTo>
                      <a:pt x="452" y="1255"/>
                    </a:lnTo>
                    <a:lnTo>
                      <a:pt x="392" y="1234"/>
                    </a:lnTo>
                    <a:lnTo>
                      <a:pt x="336" y="1208"/>
                    </a:lnTo>
                    <a:lnTo>
                      <a:pt x="284" y="1175"/>
                    </a:lnTo>
                    <a:lnTo>
                      <a:pt x="233" y="1138"/>
                    </a:lnTo>
                    <a:lnTo>
                      <a:pt x="188" y="1097"/>
                    </a:lnTo>
                    <a:lnTo>
                      <a:pt x="147" y="1051"/>
                    </a:lnTo>
                    <a:lnTo>
                      <a:pt x="110" y="1001"/>
                    </a:lnTo>
                    <a:lnTo>
                      <a:pt x="77" y="949"/>
                    </a:lnTo>
                    <a:lnTo>
                      <a:pt x="51" y="892"/>
                    </a:lnTo>
                    <a:lnTo>
                      <a:pt x="29" y="833"/>
                    </a:lnTo>
                    <a:lnTo>
                      <a:pt x="12" y="772"/>
                    </a:lnTo>
                    <a:lnTo>
                      <a:pt x="3" y="709"/>
                    </a:lnTo>
                    <a:lnTo>
                      <a:pt x="0" y="642"/>
                    </a:lnTo>
                    <a:lnTo>
                      <a:pt x="3" y="576"/>
                    </a:lnTo>
                    <a:lnTo>
                      <a:pt x="12" y="513"/>
                    </a:lnTo>
                    <a:lnTo>
                      <a:pt x="29" y="451"/>
                    </a:lnTo>
                    <a:lnTo>
                      <a:pt x="51" y="393"/>
                    </a:lnTo>
                    <a:lnTo>
                      <a:pt x="77" y="336"/>
                    </a:lnTo>
                    <a:lnTo>
                      <a:pt x="110" y="283"/>
                    </a:lnTo>
                    <a:lnTo>
                      <a:pt x="147" y="234"/>
                    </a:lnTo>
                    <a:lnTo>
                      <a:pt x="188" y="188"/>
                    </a:lnTo>
                    <a:lnTo>
                      <a:pt x="233" y="146"/>
                    </a:lnTo>
                    <a:lnTo>
                      <a:pt x="284" y="109"/>
                    </a:lnTo>
                    <a:lnTo>
                      <a:pt x="336" y="77"/>
                    </a:lnTo>
                    <a:lnTo>
                      <a:pt x="392" y="51"/>
                    </a:lnTo>
                    <a:lnTo>
                      <a:pt x="452" y="29"/>
                    </a:lnTo>
                    <a:lnTo>
                      <a:pt x="513" y="12"/>
                    </a:lnTo>
                    <a:lnTo>
                      <a:pt x="577" y="3"/>
                    </a:lnTo>
                    <a:lnTo>
                      <a:pt x="643" y="0"/>
                    </a:lnTo>
                    <a:lnTo>
                      <a:pt x="709" y="3"/>
                    </a:lnTo>
                    <a:lnTo>
                      <a:pt x="772" y="12"/>
                    </a:lnTo>
                    <a:lnTo>
                      <a:pt x="834" y="29"/>
                    </a:lnTo>
                    <a:lnTo>
                      <a:pt x="892" y="51"/>
                    </a:lnTo>
                    <a:lnTo>
                      <a:pt x="949" y="77"/>
                    </a:lnTo>
                    <a:lnTo>
                      <a:pt x="1002" y="109"/>
                    </a:lnTo>
                    <a:lnTo>
                      <a:pt x="1051" y="146"/>
                    </a:lnTo>
                    <a:lnTo>
                      <a:pt x="1097" y="188"/>
                    </a:lnTo>
                    <a:lnTo>
                      <a:pt x="1139" y="234"/>
                    </a:lnTo>
                    <a:lnTo>
                      <a:pt x="1176" y="283"/>
                    </a:lnTo>
                    <a:lnTo>
                      <a:pt x="1208" y="336"/>
                    </a:lnTo>
                    <a:lnTo>
                      <a:pt x="1235" y="393"/>
                    </a:lnTo>
                    <a:lnTo>
                      <a:pt x="1256" y="451"/>
                    </a:lnTo>
                    <a:lnTo>
                      <a:pt x="1273" y="513"/>
                    </a:lnTo>
                    <a:lnTo>
                      <a:pt x="1282" y="576"/>
                    </a:lnTo>
                    <a:lnTo>
                      <a:pt x="1285" y="642"/>
                    </a:lnTo>
                    <a:close/>
                  </a:path>
                </a:pathLst>
              </a:custGeom>
              <a:solidFill>
                <a:srgbClr val="ff87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35"/>
              <p:cNvSpPr/>
              <p:nvPr/>
            </p:nvSpPr>
            <p:spPr>
              <a:xfrm>
                <a:off x="6858000" y="2514600"/>
                <a:ext cx="193320" cy="18252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43" h="231">
                    <a:moveTo>
                      <a:pt x="243" y="115"/>
                    </a:moveTo>
                    <a:lnTo>
                      <a:pt x="240" y="138"/>
                    </a:lnTo>
                    <a:lnTo>
                      <a:pt x="234" y="160"/>
                    </a:lnTo>
                    <a:lnTo>
                      <a:pt x="222" y="180"/>
                    </a:lnTo>
                    <a:lnTo>
                      <a:pt x="208" y="197"/>
                    </a:lnTo>
                    <a:lnTo>
                      <a:pt x="190" y="211"/>
                    </a:lnTo>
                    <a:lnTo>
                      <a:pt x="168" y="221"/>
                    </a:lnTo>
                    <a:lnTo>
                      <a:pt x="146" y="228"/>
                    </a:lnTo>
                    <a:lnTo>
                      <a:pt x="122" y="231"/>
                    </a:lnTo>
                    <a:lnTo>
                      <a:pt x="97" y="228"/>
                    </a:lnTo>
                    <a:lnTo>
                      <a:pt x="74" y="221"/>
                    </a:lnTo>
                    <a:lnTo>
                      <a:pt x="54" y="211"/>
                    </a:lnTo>
                    <a:lnTo>
                      <a:pt x="35" y="197"/>
                    </a:lnTo>
                    <a:lnTo>
                      <a:pt x="20" y="180"/>
                    </a:lnTo>
                    <a:lnTo>
                      <a:pt x="9" y="160"/>
                    </a:lnTo>
                    <a:lnTo>
                      <a:pt x="3" y="138"/>
                    </a:lnTo>
                    <a:lnTo>
                      <a:pt x="0" y="115"/>
                    </a:lnTo>
                    <a:lnTo>
                      <a:pt x="3" y="92"/>
                    </a:lnTo>
                    <a:lnTo>
                      <a:pt x="9" y="70"/>
                    </a:lnTo>
                    <a:lnTo>
                      <a:pt x="20" y="50"/>
                    </a:lnTo>
                    <a:lnTo>
                      <a:pt x="35" y="33"/>
                    </a:lnTo>
                    <a:lnTo>
                      <a:pt x="54" y="20"/>
                    </a:lnTo>
                    <a:lnTo>
                      <a:pt x="74" y="9"/>
                    </a:lnTo>
                    <a:lnTo>
                      <a:pt x="97" y="3"/>
                    </a:lnTo>
                    <a:lnTo>
                      <a:pt x="122" y="0"/>
                    </a:lnTo>
                    <a:lnTo>
                      <a:pt x="146" y="3"/>
                    </a:lnTo>
                    <a:lnTo>
                      <a:pt x="168" y="9"/>
                    </a:lnTo>
                    <a:lnTo>
                      <a:pt x="190" y="20"/>
                    </a:lnTo>
                    <a:lnTo>
                      <a:pt x="208" y="33"/>
                    </a:lnTo>
                    <a:lnTo>
                      <a:pt x="222" y="50"/>
                    </a:lnTo>
                    <a:lnTo>
                      <a:pt x="234" y="70"/>
                    </a:lnTo>
                    <a:lnTo>
                      <a:pt x="240" y="92"/>
                    </a:lnTo>
                    <a:lnTo>
                      <a:pt x="243" y="115"/>
                    </a:lnTo>
                    <a:close/>
                  </a:path>
                </a:pathLst>
              </a:custGeom>
              <a:solidFill>
                <a:srgbClr val="ffa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36"/>
              <p:cNvSpPr/>
              <p:nvPr/>
            </p:nvSpPr>
            <p:spPr>
              <a:xfrm>
                <a:off x="7848360" y="2971800"/>
                <a:ext cx="772920" cy="635040"/>
              </a:xfrm>
              <a:custGeom>
                <a:avLst/>
                <a:gdLst>
                  <a:gd name="textAreaLeft" fmla="*/ 0 w 772920"/>
                  <a:gd name="textAreaRight" fmla="*/ 773280 w 772920"/>
                  <a:gd name="textAreaTop" fmla="*/ 0 h 635040"/>
                  <a:gd name="textAreaBottom" fmla="*/ 635400 h 635040"/>
                </a:gdLst>
                <a:ahLst/>
                <a:rect l="textAreaLeft" t="textAreaTop" r="textAreaRight" b="textAreaBottom"/>
                <a:pathLst>
                  <a:path w="974" h="799">
                    <a:moveTo>
                      <a:pt x="0" y="670"/>
                    </a:moveTo>
                    <a:lnTo>
                      <a:pt x="9" y="670"/>
                    </a:lnTo>
                    <a:lnTo>
                      <a:pt x="36" y="667"/>
                    </a:lnTo>
                    <a:lnTo>
                      <a:pt x="77" y="662"/>
                    </a:lnTo>
                    <a:lnTo>
                      <a:pt x="131" y="655"/>
                    </a:lnTo>
                    <a:lnTo>
                      <a:pt x="194" y="642"/>
                    </a:lnTo>
                    <a:lnTo>
                      <a:pt x="267" y="625"/>
                    </a:lnTo>
                    <a:lnTo>
                      <a:pt x="344" y="602"/>
                    </a:lnTo>
                    <a:lnTo>
                      <a:pt x="424" y="573"/>
                    </a:lnTo>
                    <a:lnTo>
                      <a:pt x="504" y="536"/>
                    </a:lnTo>
                    <a:lnTo>
                      <a:pt x="584" y="491"/>
                    </a:lnTo>
                    <a:lnTo>
                      <a:pt x="658" y="437"/>
                    </a:lnTo>
                    <a:lnTo>
                      <a:pt x="727" y="373"/>
                    </a:lnTo>
                    <a:lnTo>
                      <a:pt x="788" y="299"/>
                    </a:lnTo>
                    <a:lnTo>
                      <a:pt x="837" y="211"/>
                    </a:lnTo>
                    <a:lnTo>
                      <a:pt x="872" y="112"/>
                    </a:lnTo>
                    <a:lnTo>
                      <a:pt x="892" y="0"/>
                    </a:lnTo>
                    <a:lnTo>
                      <a:pt x="897" y="8"/>
                    </a:lnTo>
                    <a:lnTo>
                      <a:pt x="908" y="29"/>
                    </a:lnTo>
                    <a:lnTo>
                      <a:pt x="922" y="62"/>
                    </a:lnTo>
                    <a:lnTo>
                      <a:pt x="939" y="106"/>
                    </a:lnTo>
                    <a:lnTo>
                      <a:pt x="954" y="159"/>
                    </a:lnTo>
                    <a:lnTo>
                      <a:pt x="968" y="220"/>
                    </a:lnTo>
                    <a:lnTo>
                      <a:pt x="974" y="285"/>
                    </a:lnTo>
                    <a:lnTo>
                      <a:pt x="974" y="356"/>
                    </a:lnTo>
                    <a:lnTo>
                      <a:pt x="969" y="396"/>
                    </a:lnTo>
                    <a:lnTo>
                      <a:pt x="962" y="436"/>
                    </a:lnTo>
                    <a:lnTo>
                      <a:pt x="949" y="476"/>
                    </a:lnTo>
                    <a:lnTo>
                      <a:pt x="934" y="516"/>
                    </a:lnTo>
                    <a:lnTo>
                      <a:pt x="912" y="556"/>
                    </a:lnTo>
                    <a:lnTo>
                      <a:pt x="886" y="596"/>
                    </a:lnTo>
                    <a:lnTo>
                      <a:pt x="855" y="633"/>
                    </a:lnTo>
                    <a:lnTo>
                      <a:pt x="818" y="670"/>
                    </a:lnTo>
                    <a:lnTo>
                      <a:pt x="755" y="719"/>
                    </a:lnTo>
                    <a:lnTo>
                      <a:pt x="689" y="755"/>
                    </a:lnTo>
                    <a:lnTo>
                      <a:pt x="621" y="779"/>
                    </a:lnTo>
                    <a:lnTo>
                      <a:pt x="550" y="793"/>
                    </a:lnTo>
                    <a:lnTo>
                      <a:pt x="479" y="799"/>
                    </a:lnTo>
                    <a:lnTo>
                      <a:pt x="410" y="796"/>
                    </a:lnTo>
                    <a:lnTo>
                      <a:pt x="342" y="789"/>
                    </a:lnTo>
                    <a:lnTo>
                      <a:pt x="277" y="776"/>
                    </a:lnTo>
                    <a:lnTo>
                      <a:pt x="217" y="759"/>
                    </a:lnTo>
                    <a:lnTo>
                      <a:pt x="162" y="741"/>
                    </a:lnTo>
                    <a:lnTo>
                      <a:pt x="113" y="722"/>
                    </a:lnTo>
                    <a:lnTo>
                      <a:pt x="71" y="705"/>
                    </a:lnTo>
                    <a:lnTo>
                      <a:pt x="37" y="690"/>
                    </a:lnTo>
                    <a:lnTo>
                      <a:pt x="14" y="678"/>
                    </a:lnTo>
                    <a:lnTo>
                      <a:pt x="2" y="670"/>
                    </a:lnTo>
                    <a:lnTo>
                      <a:pt x="0" y="670"/>
                    </a:lnTo>
                    <a:close/>
                  </a:path>
                </a:pathLst>
              </a:custGeom>
              <a:solidFill>
                <a:srgbClr val="bf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37"/>
              <p:cNvSpPr/>
              <p:nvPr/>
            </p:nvSpPr>
            <p:spPr>
              <a:xfrm>
                <a:off x="7696080" y="2552760"/>
                <a:ext cx="434520" cy="463320"/>
              </a:xfrm>
              <a:custGeom>
                <a:avLst/>
                <a:gdLst>
                  <a:gd name="textAreaLeft" fmla="*/ 0 w 434520"/>
                  <a:gd name="textAreaRight" fmla="*/ 434880 w 43452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549" h="584">
                    <a:moveTo>
                      <a:pt x="549" y="545"/>
                    </a:moveTo>
                    <a:lnTo>
                      <a:pt x="526" y="462"/>
                    </a:lnTo>
                    <a:lnTo>
                      <a:pt x="500" y="388"/>
                    </a:lnTo>
                    <a:lnTo>
                      <a:pt x="467" y="322"/>
                    </a:lnTo>
                    <a:lnTo>
                      <a:pt x="433" y="263"/>
                    </a:lnTo>
                    <a:lnTo>
                      <a:pt x="396" y="212"/>
                    </a:lnTo>
                    <a:lnTo>
                      <a:pt x="358" y="168"/>
                    </a:lnTo>
                    <a:lnTo>
                      <a:pt x="319" y="131"/>
                    </a:lnTo>
                    <a:lnTo>
                      <a:pt x="281" y="98"/>
                    </a:lnTo>
                    <a:lnTo>
                      <a:pt x="244" y="72"/>
                    </a:lnTo>
                    <a:lnTo>
                      <a:pt x="208" y="51"/>
                    </a:lnTo>
                    <a:lnTo>
                      <a:pt x="175" y="34"/>
                    </a:lnTo>
                    <a:lnTo>
                      <a:pt x="145" y="21"/>
                    </a:lnTo>
                    <a:lnTo>
                      <a:pt x="121" y="11"/>
                    </a:lnTo>
                    <a:lnTo>
                      <a:pt x="102" y="4"/>
                    </a:lnTo>
                    <a:lnTo>
                      <a:pt x="88" y="1"/>
                    </a:lnTo>
                    <a:lnTo>
                      <a:pt x="82" y="0"/>
                    </a:lnTo>
                    <a:lnTo>
                      <a:pt x="37" y="43"/>
                    </a:lnTo>
                    <a:lnTo>
                      <a:pt x="39" y="55"/>
                    </a:lnTo>
                    <a:lnTo>
                      <a:pt x="39" y="66"/>
                    </a:lnTo>
                    <a:lnTo>
                      <a:pt x="40" y="78"/>
                    </a:lnTo>
                    <a:lnTo>
                      <a:pt x="40" y="89"/>
                    </a:lnTo>
                    <a:lnTo>
                      <a:pt x="37" y="125"/>
                    </a:lnTo>
                    <a:lnTo>
                      <a:pt x="31" y="157"/>
                    </a:lnTo>
                    <a:lnTo>
                      <a:pt x="19" y="188"/>
                    </a:lnTo>
                    <a:lnTo>
                      <a:pt x="0" y="214"/>
                    </a:lnTo>
                    <a:lnTo>
                      <a:pt x="8" y="219"/>
                    </a:lnTo>
                    <a:lnTo>
                      <a:pt x="16" y="223"/>
                    </a:lnTo>
                    <a:lnTo>
                      <a:pt x="23" y="229"/>
                    </a:lnTo>
                    <a:lnTo>
                      <a:pt x="31" y="234"/>
                    </a:lnTo>
                    <a:lnTo>
                      <a:pt x="39" y="240"/>
                    </a:lnTo>
                    <a:lnTo>
                      <a:pt x="47" y="246"/>
                    </a:lnTo>
                    <a:lnTo>
                      <a:pt x="53" y="253"/>
                    </a:lnTo>
                    <a:lnTo>
                      <a:pt x="60" y="259"/>
                    </a:lnTo>
                    <a:lnTo>
                      <a:pt x="73" y="240"/>
                    </a:lnTo>
                    <a:lnTo>
                      <a:pt x="85" y="222"/>
                    </a:lnTo>
                    <a:lnTo>
                      <a:pt x="94" y="202"/>
                    </a:lnTo>
                    <a:lnTo>
                      <a:pt x="102" y="182"/>
                    </a:lnTo>
                    <a:lnTo>
                      <a:pt x="108" y="160"/>
                    </a:lnTo>
                    <a:lnTo>
                      <a:pt x="113" y="137"/>
                    </a:lnTo>
                    <a:lnTo>
                      <a:pt x="114" y="114"/>
                    </a:lnTo>
                    <a:lnTo>
                      <a:pt x="116" y="89"/>
                    </a:lnTo>
                    <a:lnTo>
                      <a:pt x="133" y="97"/>
                    </a:lnTo>
                    <a:lnTo>
                      <a:pt x="151" y="105"/>
                    </a:lnTo>
                    <a:lnTo>
                      <a:pt x="171" y="115"/>
                    </a:lnTo>
                    <a:lnTo>
                      <a:pt x="191" y="128"/>
                    </a:lnTo>
                    <a:lnTo>
                      <a:pt x="215" y="143"/>
                    </a:lnTo>
                    <a:lnTo>
                      <a:pt x="238" y="160"/>
                    </a:lnTo>
                    <a:lnTo>
                      <a:pt x="261" y="179"/>
                    </a:lnTo>
                    <a:lnTo>
                      <a:pt x="284" y="200"/>
                    </a:lnTo>
                    <a:lnTo>
                      <a:pt x="309" y="225"/>
                    </a:lnTo>
                    <a:lnTo>
                      <a:pt x="332" y="253"/>
                    </a:lnTo>
                    <a:lnTo>
                      <a:pt x="355" y="282"/>
                    </a:lnTo>
                    <a:lnTo>
                      <a:pt x="376" y="316"/>
                    </a:lnTo>
                    <a:lnTo>
                      <a:pt x="398" y="351"/>
                    </a:lnTo>
                    <a:lnTo>
                      <a:pt x="418" y="391"/>
                    </a:lnTo>
                    <a:lnTo>
                      <a:pt x="437" y="434"/>
                    </a:lnTo>
                    <a:lnTo>
                      <a:pt x="453" y="481"/>
                    </a:lnTo>
                    <a:lnTo>
                      <a:pt x="443" y="476"/>
                    </a:lnTo>
                    <a:lnTo>
                      <a:pt x="430" y="471"/>
                    </a:lnTo>
                    <a:lnTo>
                      <a:pt x="418" y="467"/>
                    </a:lnTo>
                    <a:lnTo>
                      <a:pt x="406" y="464"/>
                    </a:lnTo>
                    <a:lnTo>
                      <a:pt x="392" y="459"/>
                    </a:lnTo>
                    <a:lnTo>
                      <a:pt x="378" y="454"/>
                    </a:lnTo>
                    <a:lnTo>
                      <a:pt x="363" y="451"/>
                    </a:lnTo>
                    <a:lnTo>
                      <a:pt x="347" y="447"/>
                    </a:lnTo>
                    <a:lnTo>
                      <a:pt x="330" y="444"/>
                    </a:lnTo>
                    <a:lnTo>
                      <a:pt x="313" y="439"/>
                    </a:lnTo>
                    <a:lnTo>
                      <a:pt x="296" y="436"/>
                    </a:lnTo>
                    <a:lnTo>
                      <a:pt x="278" y="434"/>
                    </a:lnTo>
                    <a:lnTo>
                      <a:pt x="259" y="431"/>
                    </a:lnTo>
                    <a:lnTo>
                      <a:pt x="239" y="430"/>
                    </a:lnTo>
                    <a:lnTo>
                      <a:pt x="219" y="428"/>
                    </a:lnTo>
                    <a:lnTo>
                      <a:pt x="199" y="427"/>
                    </a:lnTo>
                    <a:lnTo>
                      <a:pt x="210" y="447"/>
                    </a:lnTo>
                    <a:lnTo>
                      <a:pt x="221" y="465"/>
                    </a:lnTo>
                    <a:lnTo>
                      <a:pt x="230" y="485"/>
                    </a:lnTo>
                    <a:lnTo>
                      <a:pt x="239" y="504"/>
                    </a:lnTo>
                    <a:lnTo>
                      <a:pt x="269" y="507"/>
                    </a:lnTo>
                    <a:lnTo>
                      <a:pt x="296" y="511"/>
                    </a:lnTo>
                    <a:lnTo>
                      <a:pt x="321" y="517"/>
                    </a:lnTo>
                    <a:lnTo>
                      <a:pt x="346" y="524"/>
                    </a:lnTo>
                    <a:lnTo>
                      <a:pt x="367" y="530"/>
                    </a:lnTo>
                    <a:lnTo>
                      <a:pt x="389" y="536"/>
                    </a:lnTo>
                    <a:lnTo>
                      <a:pt x="407" y="544"/>
                    </a:lnTo>
                    <a:lnTo>
                      <a:pt x="424" y="550"/>
                    </a:lnTo>
                    <a:lnTo>
                      <a:pt x="440" y="556"/>
                    </a:lnTo>
                    <a:lnTo>
                      <a:pt x="453" y="562"/>
                    </a:lnTo>
                    <a:lnTo>
                      <a:pt x="464" y="568"/>
                    </a:lnTo>
                    <a:lnTo>
                      <a:pt x="473" y="573"/>
                    </a:lnTo>
                    <a:lnTo>
                      <a:pt x="481" y="578"/>
                    </a:lnTo>
                    <a:lnTo>
                      <a:pt x="487" y="581"/>
                    </a:lnTo>
                    <a:lnTo>
                      <a:pt x="490" y="584"/>
                    </a:lnTo>
                    <a:lnTo>
                      <a:pt x="492" y="584"/>
                    </a:lnTo>
                    <a:lnTo>
                      <a:pt x="549" y="5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38"/>
              <p:cNvSpPr/>
              <p:nvPr/>
            </p:nvSpPr>
            <p:spPr>
              <a:xfrm>
                <a:off x="7121520" y="2590560"/>
                <a:ext cx="482040" cy="287280"/>
              </a:xfrm>
              <a:custGeom>
                <a:avLst/>
                <a:gdLst>
                  <a:gd name="textAreaLeft" fmla="*/ 0 w 482040"/>
                  <a:gd name="textAreaRight" fmla="*/ 482400 w 48204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607" h="362">
                    <a:moveTo>
                      <a:pt x="94" y="270"/>
                    </a:moveTo>
                    <a:lnTo>
                      <a:pt x="134" y="216"/>
                    </a:lnTo>
                    <a:lnTo>
                      <a:pt x="172" y="173"/>
                    </a:lnTo>
                    <a:lnTo>
                      <a:pt x="209" y="139"/>
                    </a:lnTo>
                    <a:lnTo>
                      <a:pt x="243" y="113"/>
                    </a:lnTo>
                    <a:lnTo>
                      <a:pt x="272" y="96"/>
                    </a:lnTo>
                    <a:lnTo>
                      <a:pt x="295" y="83"/>
                    </a:lnTo>
                    <a:lnTo>
                      <a:pt x="311" y="77"/>
                    </a:lnTo>
                    <a:lnTo>
                      <a:pt x="317" y="76"/>
                    </a:lnTo>
                    <a:lnTo>
                      <a:pt x="323" y="74"/>
                    </a:lnTo>
                    <a:lnTo>
                      <a:pt x="337" y="74"/>
                    </a:lnTo>
                    <a:lnTo>
                      <a:pt x="356" y="74"/>
                    </a:lnTo>
                    <a:lnTo>
                      <a:pt x="380" y="77"/>
                    </a:lnTo>
                    <a:lnTo>
                      <a:pt x="410" y="83"/>
                    </a:lnTo>
                    <a:lnTo>
                      <a:pt x="440" y="96"/>
                    </a:lnTo>
                    <a:lnTo>
                      <a:pt x="476" y="114"/>
                    </a:lnTo>
                    <a:lnTo>
                      <a:pt x="513" y="139"/>
                    </a:lnTo>
                    <a:lnTo>
                      <a:pt x="524" y="133"/>
                    </a:lnTo>
                    <a:lnTo>
                      <a:pt x="536" y="128"/>
                    </a:lnTo>
                    <a:lnTo>
                      <a:pt x="547" y="125"/>
                    </a:lnTo>
                    <a:lnTo>
                      <a:pt x="559" y="122"/>
                    </a:lnTo>
                    <a:lnTo>
                      <a:pt x="570" y="120"/>
                    </a:lnTo>
                    <a:lnTo>
                      <a:pt x="582" y="120"/>
                    </a:lnTo>
                    <a:lnTo>
                      <a:pt x="594" y="120"/>
                    </a:lnTo>
                    <a:lnTo>
                      <a:pt x="607" y="122"/>
                    </a:lnTo>
                    <a:lnTo>
                      <a:pt x="579" y="96"/>
                    </a:lnTo>
                    <a:lnTo>
                      <a:pt x="551" y="74"/>
                    </a:lnTo>
                    <a:lnTo>
                      <a:pt x="525" y="56"/>
                    </a:lnTo>
                    <a:lnTo>
                      <a:pt x="499" y="40"/>
                    </a:lnTo>
                    <a:lnTo>
                      <a:pt x="473" y="28"/>
                    </a:lnTo>
                    <a:lnTo>
                      <a:pt x="448" y="19"/>
                    </a:lnTo>
                    <a:lnTo>
                      <a:pt x="425" y="11"/>
                    </a:lnTo>
                    <a:lnTo>
                      <a:pt x="402" y="6"/>
                    </a:lnTo>
                    <a:lnTo>
                      <a:pt x="382" y="3"/>
                    </a:lnTo>
                    <a:lnTo>
                      <a:pt x="363" y="0"/>
                    </a:lnTo>
                    <a:lnTo>
                      <a:pt x="346" y="0"/>
                    </a:lnTo>
                    <a:lnTo>
                      <a:pt x="332" y="0"/>
                    </a:lnTo>
                    <a:lnTo>
                      <a:pt x="320" y="0"/>
                    </a:lnTo>
                    <a:lnTo>
                      <a:pt x="311" y="2"/>
                    </a:lnTo>
                    <a:lnTo>
                      <a:pt x="305" y="3"/>
                    </a:lnTo>
                    <a:lnTo>
                      <a:pt x="302" y="3"/>
                    </a:lnTo>
                    <a:lnTo>
                      <a:pt x="299" y="3"/>
                    </a:lnTo>
                    <a:lnTo>
                      <a:pt x="292" y="6"/>
                    </a:lnTo>
                    <a:lnTo>
                      <a:pt x="283" y="9"/>
                    </a:lnTo>
                    <a:lnTo>
                      <a:pt x="271" y="14"/>
                    </a:lnTo>
                    <a:lnTo>
                      <a:pt x="255" y="20"/>
                    </a:lnTo>
                    <a:lnTo>
                      <a:pt x="238" y="29"/>
                    </a:lnTo>
                    <a:lnTo>
                      <a:pt x="218" y="40"/>
                    </a:lnTo>
                    <a:lnTo>
                      <a:pt x="198" y="52"/>
                    </a:lnTo>
                    <a:lnTo>
                      <a:pt x="175" y="69"/>
                    </a:lnTo>
                    <a:lnTo>
                      <a:pt x="152" y="88"/>
                    </a:lnTo>
                    <a:lnTo>
                      <a:pt x="128" y="111"/>
                    </a:lnTo>
                    <a:lnTo>
                      <a:pt x="103" y="137"/>
                    </a:lnTo>
                    <a:lnTo>
                      <a:pt x="77" y="166"/>
                    </a:lnTo>
                    <a:lnTo>
                      <a:pt x="50" y="199"/>
                    </a:lnTo>
                    <a:lnTo>
                      <a:pt x="24" y="237"/>
                    </a:lnTo>
                    <a:lnTo>
                      <a:pt x="0" y="279"/>
                    </a:lnTo>
                    <a:lnTo>
                      <a:pt x="26" y="334"/>
                    </a:lnTo>
                    <a:lnTo>
                      <a:pt x="30" y="336"/>
                    </a:lnTo>
                    <a:lnTo>
                      <a:pt x="38" y="337"/>
                    </a:lnTo>
                    <a:lnTo>
                      <a:pt x="49" y="339"/>
                    </a:lnTo>
                    <a:lnTo>
                      <a:pt x="63" y="341"/>
                    </a:lnTo>
                    <a:lnTo>
                      <a:pt x="80" y="344"/>
                    </a:lnTo>
                    <a:lnTo>
                      <a:pt x="98" y="347"/>
                    </a:lnTo>
                    <a:lnTo>
                      <a:pt x="120" y="350"/>
                    </a:lnTo>
                    <a:lnTo>
                      <a:pt x="144" y="351"/>
                    </a:lnTo>
                    <a:lnTo>
                      <a:pt x="171" y="354"/>
                    </a:lnTo>
                    <a:lnTo>
                      <a:pt x="198" y="357"/>
                    </a:lnTo>
                    <a:lnTo>
                      <a:pt x="228" y="359"/>
                    </a:lnTo>
                    <a:lnTo>
                      <a:pt x="257" y="361"/>
                    </a:lnTo>
                    <a:lnTo>
                      <a:pt x="289" y="362"/>
                    </a:lnTo>
                    <a:lnTo>
                      <a:pt x="322" y="362"/>
                    </a:lnTo>
                    <a:lnTo>
                      <a:pt x="356" y="362"/>
                    </a:lnTo>
                    <a:lnTo>
                      <a:pt x="389" y="361"/>
                    </a:lnTo>
                    <a:lnTo>
                      <a:pt x="393" y="341"/>
                    </a:lnTo>
                    <a:lnTo>
                      <a:pt x="397" y="322"/>
                    </a:lnTo>
                    <a:lnTo>
                      <a:pt x="402" y="304"/>
                    </a:lnTo>
                    <a:lnTo>
                      <a:pt x="408" y="285"/>
                    </a:lnTo>
                    <a:lnTo>
                      <a:pt x="385" y="287"/>
                    </a:lnTo>
                    <a:lnTo>
                      <a:pt x="362" y="287"/>
                    </a:lnTo>
                    <a:lnTo>
                      <a:pt x="339" y="287"/>
                    </a:lnTo>
                    <a:lnTo>
                      <a:pt x="317" y="287"/>
                    </a:lnTo>
                    <a:lnTo>
                      <a:pt x="294" y="287"/>
                    </a:lnTo>
                    <a:lnTo>
                      <a:pt x="272" y="287"/>
                    </a:lnTo>
                    <a:lnTo>
                      <a:pt x="251" y="285"/>
                    </a:lnTo>
                    <a:lnTo>
                      <a:pt x="231" y="284"/>
                    </a:lnTo>
                    <a:lnTo>
                      <a:pt x="211" y="282"/>
                    </a:lnTo>
                    <a:lnTo>
                      <a:pt x="191" y="280"/>
                    </a:lnTo>
                    <a:lnTo>
                      <a:pt x="172" y="279"/>
                    </a:lnTo>
                    <a:lnTo>
                      <a:pt x="155" y="277"/>
                    </a:lnTo>
                    <a:lnTo>
                      <a:pt x="138" y="276"/>
                    </a:lnTo>
                    <a:lnTo>
                      <a:pt x="121" y="273"/>
                    </a:lnTo>
                    <a:lnTo>
                      <a:pt x="107" y="271"/>
                    </a:lnTo>
                    <a:lnTo>
                      <a:pt x="94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39"/>
              <p:cNvSpPr/>
              <p:nvPr/>
            </p:nvSpPr>
            <p:spPr>
              <a:xfrm>
                <a:off x="7354800" y="2685960"/>
                <a:ext cx="707760" cy="909720"/>
              </a:xfrm>
              <a:custGeom>
                <a:avLst/>
                <a:gdLst>
                  <a:gd name="textAreaLeft" fmla="*/ 0 w 707760"/>
                  <a:gd name="textAreaRight" fmla="*/ 707760 w 70776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891" h="1146">
                    <a:moveTo>
                      <a:pt x="601" y="259"/>
                    </a:moveTo>
                    <a:lnTo>
                      <a:pt x="586" y="259"/>
                    </a:lnTo>
                    <a:lnTo>
                      <a:pt x="572" y="259"/>
                    </a:lnTo>
                    <a:lnTo>
                      <a:pt x="556" y="261"/>
                    </a:lnTo>
                    <a:lnTo>
                      <a:pt x="539" y="261"/>
                    </a:lnTo>
                    <a:lnTo>
                      <a:pt x="524" y="262"/>
                    </a:lnTo>
                    <a:lnTo>
                      <a:pt x="507" y="264"/>
                    </a:lnTo>
                    <a:lnTo>
                      <a:pt x="488" y="265"/>
                    </a:lnTo>
                    <a:lnTo>
                      <a:pt x="472" y="267"/>
                    </a:lnTo>
                    <a:lnTo>
                      <a:pt x="465" y="251"/>
                    </a:lnTo>
                    <a:lnTo>
                      <a:pt x="459" y="236"/>
                    </a:lnTo>
                    <a:lnTo>
                      <a:pt x="453" y="222"/>
                    </a:lnTo>
                    <a:lnTo>
                      <a:pt x="447" y="208"/>
                    </a:lnTo>
                    <a:lnTo>
                      <a:pt x="441" y="194"/>
                    </a:lnTo>
                    <a:lnTo>
                      <a:pt x="435" y="180"/>
                    </a:lnTo>
                    <a:lnTo>
                      <a:pt x="428" y="167"/>
                    </a:lnTo>
                    <a:lnTo>
                      <a:pt x="422" y="154"/>
                    </a:lnTo>
                    <a:lnTo>
                      <a:pt x="433" y="147"/>
                    </a:lnTo>
                    <a:lnTo>
                      <a:pt x="442" y="139"/>
                    </a:lnTo>
                    <a:lnTo>
                      <a:pt x="453" y="131"/>
                    </a:lnTo>
                    <a:lnTo>
                      <a:pt x="462" y="122"/>
                    </a:lnTo>
                    <a:lnTo>
                      <a:pt x="468" y="114"/>
                    </a:lnTo>
                    <a:lnTo>
                      <a:pt x="476" y="108"/>
                    </a:lnTo>
                    <a:lnTo>
                      <a:pt x="482" y="100"/>
                    </a:lnTo>
                    <a:lnTo>
                      <a:pt x="488" y="93"/>
                    </a:lnTo>
                    <a:lnTo>
                      <a:pt x="481" y="87"/>
                    </a:lnTo>
                    <a:lnTo>
                      <a:pt x="475" y="80"/>
                    </a:lnTo>
                    <a:lnTo>
                      <a:pt x="467" y="74"/>
                    </a:lnTo>
                    <a:lnTo>
                      <a:pt x="459" y="68"/>
                    </a:lnTo>
                    <a:lnTo>
                      <a:pt x="451" y="63"/>
                    </a:lnTo>
                    <a:lnTo>
                      <a:pt x="444" y="57"/>
                    </a:lnTo>
                    <a:lnTo>
                      <a:pt x="436" y="53"/>
                    </a:lnTo>
                    <a:lnTo>
                      <a:pt x="428" y="48"/>
                    </a:lnTo>
                    <a:lnTo>
                      <a:pt x="425" y="53"/>
                    </a:lnTo>
                    <a:lnTo>
                      <a:pt x="421" y="57"/>
                    </a:lnTo>
                    <a:lnTo>
                      <a:pt x="416" y="63"/>
                    </a:lnTo>
                    <a:lnTo>
                      <a:pt x="410" y="68"/>
                    </a:lnTo>
                    <a:lnTo>
                      <a:pt x="404" y="74"/>
                    </a:lnTo>
                    <a:lnTo>
                      <a:pt x="398" y="79"/>
                    </a:lnTo>
                    <a:lnTo>
                      <a:pt x="390" y="85"/>
                    </a:lnTo>
                    <a:lnTo>
                      <a:pt x="384" y="90"/>
                    </a:lnTo>
                    <a:lnTo>
                      <a:pt x="374" y="77"/>
                    </a:lnTo>
                    <a:lnTo>
                      <a:pt x="367" y="65"/>
                    </a:lnTo>
                    <a:lnTo>
                      <a:pt x="357" y="53"/>
                    </a:lnTo>
                    <a:lnTo>
                      <a:pt x="348" y="42"/>
                    </a:lnTo>
                    <a:lnTo>
                      <a:pt x="341" y="31"/>
                    </a:lnTo>
                    <a:lnTo>
                      <a:pt x="331" y="20"/>
                    </a:lnTo>
                    <a:lnTo>
                      <a:pt x="322" y="11"/>
                    </a:lnTo>
                    <a:lnTo>
                      <a:pt x="313" y="2"/>
                    </a:lnTo>
                    <a:lnTo>
                      <a:pt x="300" y="0"/>
                    </a:lnTo>
                    <a:lnTo>
                      <a:pt x="288" y="0"/>
                    </a:lnTo>
                    <a:lnTo>
                      <a:pt x="276" y="0"/>
                    </a:lnTo>
                    <a:lnTo>
                      <a:pt x="265" y="2"/>
                    </a:lnTo>
                    <a:lnTo>
                      <a:pt x="253" y="5"/>
                    </a:lnTo>
                    <a:lnTo>
                      <a:pt x="242" y="8"/>
                    </a:lnTo>
                    <a:lnTo>
                      <a:pt x="230" y="13"/>
                    </a:lnTo>
                    <a:lnTo>
                      <a:pt x="219" y="19"/>
                    </a:lnTo>
                    <a:lnTo>
                      <a:pt x="231" y="28"/>
                    </a:lnTo>
                    <a:lnTo>
                      <a:pt x="243" y="39"/>
                    </a:lnTo>
                    <a:lnTo>
                      <a:pt x="256" y="51"/>
                    </a:lnTo>
                    <a:lnTo>
                      <a:pt x="268" y="63"/>
                    </a:lnTo>
                    <a:lnTo>
                      <a:pt x="280" y="77"/>
                    </a:lnTo>
                    <a:lnTo>
                      <a:pt x="293" y="91"/>
                    </a:lnTo>
                    <a:lnTo>
                      <a:pt x="305" y="108"/>
                    </a:lnTo>
                    <a:lnTo>
                      <a:pt x="317" y="125"/>
                    </a:lnTo>
                    <a:lnTo>
                      <a:pt x="294" y="134"/>
                    </a:lnTo>
                    <a:lnTo>
                      <a:pt x="270" y="140"/>
                    </a:lnTo>
                    <a:lnTo>
                      <a:pt x="245" y="147"/>
                    </a:lnTo>
                    <a:lnTo>
                      <a:pt x="220" y="153"/>
                    </a:lnTo>
                    <a:lnTo>
                      <a:pt x="194" y="157"/>
                    </a:lnTo>
                    <a:lnTo>
                      <a:pt x="168" y="160"/>
                    </a:lnTo>
                    <a:lnTo>
                      <a:pt x="140" y="164"/>
                    </a:lnTo>
                    <a:lnTo>
                      <a:pt x="114" y="165"/>
                    </a:lnTo>
                    <a:lnTo>
                      <a:pt x="108" y="184"/>
                    </a:lnTo>
                    <a:lnTo>
                      <a:pt x="103" y="202"/>
                    </a:lnTo>
                    <a:lnTo>
                      <a:pt x="99" y="221"/>
                    </a:lnTo>
                    <a:lnTo>
                      <a:pt x="95" y="241"/>
                    </a:lnTo>
                    <a:lnTo>
                      <a:pt x="112" y="239"/>
                    </a:lnTo>
                    <a:lnTo>
                      <a:pt x="129" y="239"/>
                    </a:lnTo>
                    <a:lnTo>
                      <a:pt x="146" y="237"/>
                    </a:lnTo>
                    <a:lnTo>
                      <a:pt x="163" y="236"/>
                    </a:lnTo>
                    <a:lnTo>
                      <a:pt x="180" y="233"/>
                    </a:lnTo>
                    <a:lnTo>
                      <a:pt x="196" y="231"/>
                    </a:lnTo>
                    <a:lnTo>
                      <a:pt x="213" y="228"/>
                    </a:lnTo>
                    <a:lnTo>
                      <a:pt x="230" y="225"/>
                    </a:lnTo>
                    <a:lnTo>
                      <a:pt x="247" y="222"/>
                    </a:lnTo>
                    <a:lnTo>
                      <a:pt x="262" y="219"/>
                    </a:lnTo>
                    <a:lnTo>
                      <a:pt x="279" y="214"/>
                    </a:lnTo>
                    <a:lnTo>
                      <a:pt x="294" y="211"/>
                    </a:lnTo>
                    <a:lnTo>
                      <a:pt x="310" y="207"/>
                    </a:lnTo>
                    <a:lnTo>
                      <a:pt x="325" y="201"/>
                    </a:lnTo>
                    <a:lnTo>
                      <a:pt x="341" y="196"/>
                    </a:lnTo>
                    <a:lnTo>
                      <a:pt x="354" y="190"/>
                    </a:lnTo>
                    <a:lnTo>
                      <a:pt x="365" y="211"/>
                    </a:lnTo>
                    <a:lnTo>
                      <a:pt x="376" y="233"/>
                    </a:lnTo>
                    <a:lnTo>
                      <a:pt x="387" y="256"/>
                    </a:lnTo>
                    <a:lnTo>
                      <a:pt x="396" y="281"/>
                    </a:lnTo>
                    <a:lnTo>
                      <a:pt x="379" y="285"/>
                    </a:lnTo>
                    <a:lnTo>
                      <a:pt x="362" y="288"/>
                    </a:lnTo>
                    <a:lnTo>
                      <a:pt x="345" y="293"/>
                    </a:lnTo>
                    <a:lnTo>
                      <a:pt x="327" y="299"/>
                    </a:lnTo>
                    <a:lnTo>
                      <a:pt x="310" y="304"/>
                    </a:lnTo>
                    <a:lnTo>
                      <a:pt x="291" y="310"/>
                    </a:lnTo>
                    <a:lnTo>
                      <a:pt x="273" y="316"/>
                    </a:lnTo>
                    <a:lnTo>
                      <a:pt x="254" y="322"/>
                    </a:lnTo>
                    <a:lnTo>
                      <a:pt x="236" y="330"/>
                    </a:lnTo>
                    <a:lnTo>
                      <a:pt x="216" y="336"/>
                    </a:lnTo>
                    <a:lnTo>
                      <a:pt x="197" y="345"/>
                    </a:lnTo>
                    <a:lnTo>
                      <a:pt x="177" y="353"/>
                    </a:lnTo>
                    <a:lnTo>
                      <a:pt x="157" y="362"/>
                    </a:lnTo>
                    <a:lnTo>
                      <a:pt x="137" y="372"/>
                    </a:lnTo>
                    <a:lnTo>
                      <a:pt x="117" y="381"/>
                    </a:lnTo>
                    <a:lnTo>
                      <a:pt x="97" y="392"/>
                    </a:lnTo>
                    <a:lnTo>
                      <a:pt x="100" y="412"/>
                    </a:lnTo>
                    <a:lnTo>
                      <a:pt x="103" y="430"/>
                    </a:lnTo>
                    <a:lnTo>
                      <a:pt x="108" y="449"/>
                    </a:lnTo>
                    <a:lnTo>
                      <a:pt x="112" y="469"/>
                    </a:lnTo>
                    <a:lnTo>
                      <a:pt x="132" y="458"/>
                    </a:lnTo>
                    <a:lnTo>
                      <a:pt x="151" y="449"/>
                    </a:lnTo>
                    <a:lnTo>
                      <a:pt x="171" y="438"/>
                    </a:lnTo>
                    <a:lnTo>
                      <a:pt x="190" y="429"/>
                    </a:lnTo>
                    <a:lnTo>
                      <a:pt x="210" y="421"/>
                    </a:lnTo>
                    <a:lnTo>
                      <a:pt x="228" y="412"/>
                    </a:lnTo>
                    <a:lnTo>
                      <a:pt x="248" y="404"/>
                    </a:lnTo>
                    <a:lnTo>
                      <a:pt x="267" y="396"/>
                    </a:lnTo>
                    <a:lnTo>
                      <a:pt x="287" y="390"/>
                    </a:lnTo>
                    <a:lnTo>
                      <a:pt x="305" y="382"/>
                    </a:lnTo>
                    <a:lnTo>
                      <a:pt x="325" y="376"/>
                    </a:lnTo>
                    <a:lnTo>
                      <a:pt x="344" y="372"/>
                    </a:lnTo>
                    <a:lnTo>
                      <a:pt x="364" y="365"/>
                    </a:lnTo>
                    <a:lnTo>
                      <a:pt x="382" y="361"/>
                    </a:lnTo>
                    <a:lnTo>
                      <a:pt x="402" y="356"/>
                    </a:lnTo>
                    <a:lnTo>
                      <a:pt x="421" y="351"/>
                    </a:lnTo>
                    <a:lnTo>
                      <a:pt x="431" y="390"/>
                    </a:lnTo>
                    <a:lnTo>
                      <a:pt x="439" y="427"/>
                    </a:lnTo>
                    <a:lnTo>
                      <a:pt x="445" y="464"/>
                    </a:lnTo>
                    <a:lnTo>
                      <a:pt x="448" y="501"/>
                    </a:lnTo>
                    <a:lnTo>
                      <a:pt x="430" y="506"/>
                    </a:lnTo>
                    <a:lnTo>
                      <a:pt x="413" y="512"/>
                    </a:lnTo>
                    <a:lnTo>
                      <a:pt x="394" y="518"/>
                    </a:lnTo>
                    <a:lnTo>
                      <a:pt x="378" y="526"/>
                    </a:lnTo>
                    <a:lnTo>
                      <a:pt x="361" y="533"/>
                    </a:lnTo>
                    <a:lnTo>
                      <a:pt x="342" y="543"/>
                    </a:lnTo>
                    <a:lnTo>
                      <a:pt x="325" y="552"/>
                    </a:lnTo>
                    <a:lnTo>
                      <a:pt x="308" y="561"/>
                    </a:lnTo>
                    <a:lnTo>
                      <a:pt x="291" y="572"/>
                    </a:lnTo>
                    <a:lnTo>
                      <a:pt x="274" y="583"/>
                    </a:lnTo>
                    <a:lnTo>
                      <a:pt x="259" y="593"/>
                    </a:lnTo>
                    <a:lnTo>
                      <a:pt x="242" y="606"/>
                    </a:lnTo>
                    <a:lnTo>
                      <a:pt x="226" y="618"/>
                    </a:lnTo>
                    <a:lnTo>
                      <a:pt x="210" y="630"/>
                    </a:lnTo>
                    <a:lnTo>
                      <a:pt x="194" y="643"/>
                    </a:lnTo>
                    <a:lnTo>
                      <a:pt x="179" y="656"/>
                    </a:lnTo>
                    <a:lnTo>
                      <a:pt x="188" y="677"/>
                    </a:lnTo>
                    <a:lnTo>
                      <a:pt x="197" y="695"/>
                    </a:lnTo>
                    <a:lnTo>
                      <a:pt x="205" y="710"/>
                    </a:lnTo>
                    <a:lnTo>
                      <a:pt x="213" y="726"/>
                    </a:lnTo>
                    <a:lnTo>
                      <a:pt x="240" y="703"/>
                    </a:lnTo>
                    <a:lnTo>
                      <a:pt x="268" y="680"/>
                    </a:lnTo>
                    <a:lnTo>
                      <a:pt x="297" y="658"/>
                    </a:lnTo>
                    <a:lnTo>
                      <a:pt x="327" y="638"/>
                    </a:lnTo>
                    <a:lnTo>
                      <a:pt x="357" y="620"/>
                    </a:lnTo>
                    <a:lnTo>
                      <a:pt x="387" y="603"/>
                    </a:lnTo>
                    <a:lnTo>
                      <a:pt x="418" y="589"/>
                    </a:lnTo>
                    <a:lnTo>
                      <a:pt x="448" y="578"/>
                    </a:lnTo>
                    <a:lnTo>
                      <a:pt x="445" y="607"/>
                    </a:lnTo>
                    <a:lnTo>
                      <a:pt x="442" y="638"/>
                    </a:lnTo>
                    <a:lnTo>
                      <a:pt x="438" y="667"/>
                    </a:lnTo>
                    <a:lnTo>
                      <a:pt x="431" y="697"/>
                    </a:lnTo>
                    <a:lnTo>
                      <a:pt x="424" y="726"/>
                    </a:lnTo>
                    <a:lnTo>
                      <a:pt x="415" y="755"/>
                    </a:lnTo>
                    <a:lnTo>
                      <a:pt x="404" y="784"/>
                    </a:lnTo>
                    <a:lnTo>
                      <a:pt x="391" y="814"/>
                    </a:lnTo>
                    <a:lnTo>
                      <a:pt x="370" y="857"/>
                    </a:lnTo>
                    <a:lnTo>
                      <a:pt x="348" y="894"/>
                    </a:lnTo>
                    <a:lnTo>
                      <a:pt x="327" y="928"/>
                    </a:lnTo>
                    <a:lnTo>
                      <a:pt x="305" y="954"/>
                    </a:lnTo>
                    <a:lnTo>
                      <a:pt x="288" y="977"/>
                    </a:lnTo>
                    <a:lnTo>
                      <a:pt x="274" y="992"/>
                    </a:lnTo>
                    <a:lnTo>
                      <a:pt x="263" y="1003"/>
                    </a:lnTo>
                    <a:lnTo>
                      <a:pt x="260" y="1006"/>
                    </a:lnTo>
                    <a:lnTo>
                      <a:pt x="313" y="1060"/>
                    </a:lnTo>
                    <a:lnTo>
                      <a:pt x="317" y="1055"/>
                    </a:lnTo>
                    <a:lnTo>
                      <a:pt x="328" y="1045"/>
                    </a:lnTo>
                    <a:lnTo>
                      <a:pt x="344" y="1026"/>
                    </a:lnTo>
                    <a:lnTo>
                      <a:pt x="364" y="1002"/>
                    </a:lnTo>
                    <a:lnTo>
                      <a:pt x="387" y="972"/>
                    </a:lnTo>
                    <a:lnTo>
                      <a:pt x="410" y="935"/>
                    </a:lnTo>
                    <a:lnTo>
                      <a:pt x="435" y="894"/>
                    </a:lnTo>
                    <a:lnTo>
                      <a:pt x="458" y="846"/>
                    </a:lnTo>
                    <a:lnTo>
                      <a:pt x="470" y="818"/>
                    </a:lnTo>
                    <a:lnTo>
                      <a:pt x="481" y="789"/>
                    </a:lnTo>
                    <a:lnTo>
                      <a:pt x="492" y="757"/>
                    </a:lnTo>
                    <a:lnTo>
                      <a:pt x="502" y="721"/>
                    </a:lnTo>
                    <a:lnTo>
                      <a:pt x="510" y="686"/>
                    </a:lnTo>
                    <a:lnTo>
                      <a:pt x="516" y="647"/>
                    </a:lnTo>
                    <a:lnTo>
                      <a:pt x="521" y="607"/>
                    </a:lnTo>
                    <a:lnTo>
                      <a:pt x="524" y="566"/>
                    </a:lnTo>
                    <a:lnTo>
                      <a:pt x="532" y="566"/>
                    </a:lnTo>
                    <a:lnTo>
                      <a:pt x="539" y="566"/>
                    </a:lnTo>
                    <a:lnTo>
                      <a:pt x="547" y="566"/>
                    </a:lnTo>
                    <a:lnTo>
                      <a:pt x="555" y="567"/>
                    </a:lnTo>
                    <a:lnTo>
                      <a:pt x="573" y="570"/>
                    </a:lnTo>
                    <a:lnTo>
                      <a:pt x="592" y="575"/>
                    </a:lnTo>
                    <a:lnTo>
                      <a:pt x="610" y="581"/>
                    </a:lnTo>
                    <a:lnTo>
                      <a:pt x="627" y="590"/>
                    </a:lnTo>
                    <a:lnTo>
                      <a:pt x="646" y="599"/>
                    </a:lnTo>
                    <a:lnTo>
                      <a:pt x="663" y="612"/>
                    </a:lnTo>
                    <a:lnTo>
                      <a:pt x="678" y="626"/>
                    </a:lnTo>
                    <a:lnTo>
                      <a:pt x="695" y="640"/>
                    </a:lnTo>
                    <a:lnTo>
                      <a:pt x="710" y="658"/>
                    </a:lnTo>
                    <a:lnTo>
                      <a:pt x="724" y="677"/>
                    </a:lnTo>
                    <a:lnTo>
                      <a:pt x="740" y="697"/>
                    </a:lnTo>
                    <a:lnTo>
                      <a:pt x="754" y="718"/>
                    </a:lnTo>
                    <a:lnTo>
                      <a:pt x="767" y="743"/>
                    </a:lnTo>
                    <a:lnTo>
                      <a:pt x="781" y="769"/>
                    </a:lnTo>
                    <a:lnTo>
                      <a:pt x="794" y="795"/>
                    </a:lnTo>
                    <a:lnTo>
                      <a:pt x="806" y="824"/>
                    </a:lnTo>
                    <a:lnTo>
                      <a:pt x="795" y="838"/>
                    </a:lnTo>
                    <a:lnTo>
                      <a:pt x="780" y="855"/>
                    </a:lnTo>
                    <a:lnTo>
                      <a:pt x="761" y="875"/>
                    </a:lnTo>
                    <a:lnTo>
                      <a:pt x="740" y="897"/>
                    </a:lnTo>
                    <a:lnTo>
                      <a:pt x="713" y="920"/>
                    </a:lnTo>
                    <a:lnTo>
                      <a:pt x="684" y="945"/>
                    </a:lnTo>
                    <a:lnTo>
                      <a:pt x="652" y="968"/>
                    </a:lnTo>
                    <a:lnTo>
                      <a:pt x="615" y="991"/>
                    </a:lnTo>
                    <a:lnTo>
                      <a:pt x="582" y="1009"/>
                    </a:lnTo>
                    <a:lnTo>
                      <a:pt x="549" y="1025"/>
                    </a:lnTo>
                    <a:lnTo>
                      <a:pt x="515" y="1039"/>
                    </a:lnTo>
                    <a:lnTo>
                      <a:pt x="481" y="1049"/>
                    </a:lnTo>
                    <a:lnTo>
                      <a:pt x="445" y="1059"/>
                    </a:lnTo>
                    <a:lnTo>
                      <a:pt x="410" y="1065"/>
                    </a:lnTo>
                    <a:lnTo>
                      <a:pt x="373" y="1069"/>
                    </a:lnTo>
                    <a:lnTo>
                      <a:pt x="337" y="1071"/>
                    </a:lnTo>
                    <a:lnTo>
                      <a:pt x="300" y="1072"/>
                    </a:lnTo>
                    <a:lnTo>
                      <a:pt x="263" y="1069"/>
                    </a:lnTo>
                    <a:lnTo>
                      <a:pt x="225" y="1065"/>
                    </a:lnTo>
                    <a:lnTo>
                      <a:pt x="186" y="1059"/>
                    </a:lnTo>
                    <a:lnTo>
                      <a:pt x="148" y="1049"/>
                    </a:lnTo>
                    <a:lnTo>
                      <a:pt x="109" y="1039"/>
                    </a:lnTo>
                    <a:lnTo>
                      <a:pt x="69" y="1025"/>
                    </a:lnTo>
                    <a:lnTo>
                      <a:pt x="29" y="1009"/>
                    </a:lnTo>
                    <a:lnTo>
                      <a:pt x="0" y="1079"/>
                    </a:lnTo>
                    <a:lnTo>
                      <a:pt x="54" y="1100"/>
                    </a:lnTo>
                    <a:lnTo>
                      <a:pt x="108" y="1116"/>
                    </a:lnTo>
                    <a:lnTo>
                      <a:pt x="159" y="1129"/>
                    </a:lnTo>
                    <a:lnTo>
                      <a:pt x="208" y="1139"/>
                    </a:lnTo>
                    <a:lnTo>
                      <a:pt x="256" y="1143"/>
                    </a:lnTo>
                    <a:lnTo>
                      <a:pt x="302" y="1146"/>
                    </a:lnTo>
                    <a:lnTo>
                      <a:pt x="345" y="1146"/>
                    </a:lnTo>
                    <a:lnTo>
                      <a:pt x="388" y="1142"/>
                    </a:lnTo>
                    <a:lnTo>
                      <a:pt x="428" y="1137"/>
                    </a:lnTo>
                    <a:lnTo>
                      <a:pt x="465" y="1129"/>
                    </a:lnTo>
                    <a:lnTo>
                      <a:pt x="502" y="1120"/>
                    </a:lnTo>
                    <a:lnTo>
                      <a:pt x="536" y="1109"/>
                    </a:lnTo>
                    <a:lnTo>
                      <a:pt x="570" y="1097"/>
                    </a:lnTo>
                    <a:lnTo>
                      <a:pt x="599" y="1083"/>
                    </a:lnTo>
                    <a:lnTo>
                      <a:pt x="629" y="1069"/>
                    </a:lnTo>
                    <a:lnTo>
                      <a:pt x="655" y="1054"/>
                    </a:lnTo>
                    <a:lnTo>
                      <a:pt x="706" y="1022"/>
                    </a:lnTo>
                    <a:lnTo>
                      <a:pt x="752" y="986"/>
                    </a:lnTo>
                    <a:lnTo>
                      <a:pt x="789" y="954"/>
                    </a:lnTo>
                    <a:lnTo>
                      <a:pt x="821" y="921"/>
                    </a:lnTo>
                    <a:lnTo>
                      <a:pt x="846" y="894"/>
                    </a:lnTo>
                    <a:lnTo>
                      <a:pt x="865" y="871"/>
                    </a:lnTo>
                    <a:lnTo>
                      <a:pt x="875" y="855"/>
                    </a:lnTo>
                    <a:lnTo>
                      <a:pt x="880" y="849"/>
                    </a:lnTo>
                    <a:lnTo>
                      <a:pt x="891" y="834"/>
                    </a:lnTo>
                    <a:lnTo>
                      <a:pt x="883" y="817"/>
                    </a:lnTo>
                    <a:lnTo>
                      <a:pt x="868" y="780"/>
                    </a:lnTo>
                    <a:lnTo>
                      <a:pt x="852" y="746"/>
                    </a:lnTo>
                    <a:lnTo>
                      <a:pt x="837" y="713"/>
                    </a:lnTo>
                    <a:lnTo>
                      <a:pt x="820" y="684"/>
                    </a:lnTo>
                    <a:lnTo>
                      <a:pt x="803" y="655"/>
                    </a:lnTo>
                    <a:lnTo>
                      <a:pt x="784" y="630"/>
                    </a:lnTo>
                    <a:lnTo>
                      <a:pt x="764" y="606"/>
                    </a:lnTo>
                    <a:lnTo>
                      <a:pt x="746" y="584"/>
                    </a:lnTo>
                    <a:lnTo>
                      <a:pt x="726" y="566"/>
                    </a:lnTo>
                    <a:lnTo>
                      <a:pt x="704" y="549"/>
                    </a:lnTo>
                    <a:lnTo>
                      <a:pt x="683" y="533"/>
                    </a:lnTo>
                    <a:lnTo>
                      <a:pt x="660" y="521"/>
                    </a:lnTo>
                    <a:lnTo>
                      <a:pt x="636" y="510"/>
                    </a:lnTo>
                    <a:lnTo>
                      <a:pt x="613" y="502"/>
                    </a:lnTo>
                    <a:lnTo>
                      <a:pt x="589" y="496"/>
                    </a:lnTo>
                    <a:lnTo>
                      <a:pt x="564" y="492"/>
                    </a:lnTo>
                    <a:lnTo>
                      <a:pt x="553" y="490"/>
                    </a:lnTo>
                    <a:lnTo>
                      <a:pt x="544" y="490"/>
                    </a:lnTo>
                    <a:lnTo>
                      <a:pt x="533" y="490"/>
                    </a:lnTo>
                    <a:lnTo>
                      <a:pt x="522" y="490"/>
                    </a:lnTo>
                    <a:lnTo>
                      <a:pt x="519" y="455"/>
                    </a:lnTo>
                    <a:lnTo>
                      <a:pt x="513" y="416"/>
                    </a:lnTo>
                    <a:lnTo>
                      <a:pt x="505" y="379"/>
                    </a:lnTo>
                    <a:lnTo>
                      <a:pt x="496" y="339"/>
                    </a:lnTo>
                    <a:lnTo>
                      <a:pt x="509" y="338"/>
                    </a:lnTo>
                    <a:lnTo>
                      <a:pt x="521" y="338"/>
                    </a:lnTo>
                    <a:lnTo>
                      <a:pt x="533" y="336"/>
                    </a:lnTo>
                    <a:lnTo>
                      <a:pt x="545" y="336"/>
                    </a:lnTo>
                    <a:lnTo>
                      <a:pt x="558" y="335"/>
                    </a:lnTo>
                    <a:lnTo>
                      <a:pt x="570" y="335"/>
                    </a:lnTo>
                    <a:lnTo>
                      <a:pt x="582" y="335"/>
                    </a:lnTo>
                    <a:lnTo>
                      <a:pt x="595" y="335"/>
                    </a:lnTo>
                    <a:lnTo>
                      <a:pt x="604" y="335"/>
                    </a:lnTo>
                    <a:lnTo>
                      <a:pt x="613" y="335"/>
                    </a:lnTo>
                    <a:lnTo>
                      <a:pt x="623" y="335"/>
                    </a:lnTo>
                    <a:lnTo>
                      <a:pt x="632" y="336"/>
                    </a:lnTo>
                    <a:lnTo>
                      <a:pt x="641" y="336"/>
                    </a:lnTo>
                    <a:lnTo>
                      <a:pt x="650" y="336"/>
                    </a:lnTo>
                    <a:lnTo>
                      <a:pt x="658" y="338"/>
                    </a:lnTo>
                    <a:lnTo>
                      <a:pt x="667" y="338"/>
                    </a:lnTo>
                    <a:lnTo>
                      <a:pt x="658" y="319"/>
                    </a:lnTo>
                    <a:lnTo>
                      <a:pt x="649" y="299"/>
                    </a:lnTo>
                    <a:lnTo>
                      <a:pt x="638" y="281"/>
                    </a:lnTo>
                    <a:lnTo>
                      <a:pt x="627" y="261"/>
                    </a:lnTo>
                    <a:lnTo>
                      <a:pt x="621" y="259"/>
                    </a:lnTo>
                    <a:lnTo>
                      <a:pt x="615" y="259"/>
                    </a:lnTo>
                    <a:lnTo>
                      <a:pt x="607" y="259"/>
                    </a:lnTo>
                    <a:lnTo>
                      <a:pt x="601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40"/>
              <p:cNvSpPr/>
              <p:nvPr/>
            </p:nvSpPr>
            <p:spPr>
              <a:xfrm>
                <a:off x="7099200" y="2995560"/>
                <a:ext cx="425160" cy="51732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535" h="651">
                    <a:moveTo>
                      <a:pt x="246" y="545"/>
                    </a:moveTo>
                    <a:lnTo>
                      <a:pt x="211" y="514"/>
                    </a:lnTo>
                    <a:lnTo>
                      <a:pt x="180" y="483"/>
                    </a:lnTo>
                    <a:lnTo>
                      <a:pt x="154" y="452"/>
                    </a:lnTo>
                    <a:lnTo>
                      <a:pt x="132" y="423"/>
                    </a:lnTo>
                    <a:lnTo>
                      <a:pt x="114" y="395"/>
                    </a:lnTo>
                    <a:lnTo>
                      <a:pt x="100" y="371"/>
                    </a:lnTo>
                    <a:lnTo>
                      <a:pt x="88" y="349"/>
                    </a:lnTo>
                    <a:lnTo>
                      <a:pt x="80" y="332"/>
                    </a:lnTo>
                    <a:lnTo>
                      <a:pt x="102" y="312"/>
                    </a:lnTo>
                    <a:lnTo>
                      <a:pt x="125" y="294"/>
                    </a:lnTo>
                    <a:lnTo>
                      <a:pt x="146" y="275"/>
                    </a:lnTo>
                    <a:lnTo>
                      <a:pt x="169" y="257"/>
                    </a:lnTo>
                    <a:lnTo>
                      <a:pt x="191" y="238"/>
                    </a:lnTo>
                    <a:lnTo>
                      <a:pt x="213" y="221"/>
                    </a:lnTo>
                    <a:lnTo>
                      <a:pt x="236" y="204"/>
                    </a:lnTo>
                    <a:lnTo>
                      <a:pt x="257" y="187"/>
                    </a:lnTo>
                    <a:lnTo>
                      <a:pt x="279" y="172"/>
                    </a:lnTo>
                    <a:lnTo>
                      <a:pt x="302" y="157"/>
                    </a:lnTo>
                    <a:lnTo>
                      <a:pt x="323" y="143"/>
                    </a:lnTo>
                    <a:lnTo>
                      <a:pt x="345" y="129"/>
                    </a:lnTo>
                    <a:lnTo>
                      <a:pt x="368" y="115"/>
                    </a:lnTo>
                    <a:lnTo>
                      <a:pt x="390" y="101"/>
                    </a:lnTo>
                    <a:lnTo>
                      <a:pt x="413" y="89"/>
                    </a:lnTo>
                    <a:lnTo>
                      <a:pt x="434" y="77"/>
                    </a:lnTo>
                    <a:lnTo>
                      <a:pt x="430" y="57"/>
                    </a:lnTo>
                    <a:lnTo>
                      <a:pt x="425" y="38"/>
                    </a:lnTo>
                    <a:lnTo>
                      <a:pt x="422" y="20"/>
                    </a:lnTo>
                    <a:lnTo>
                      <a:pt x="419" y="0"/>
                    </a:lnTo>
                    <a:lnTo>
                      <a:pt x="396" y="12"/>
                    </a:lnTo>
                    <a:lnTo>
                      <a:pt x="371" y="26"/>
                    </a:lnTo>
                    <a:lnTo>
                      <a:pt x="348" y="40"/>
                    </a:lnTo>
                    <a:lnTo>
                      <a:pt x="323" y="53"/>
                    </a:lnTo>
                    <a:lnTo>
                      <a:pt x="299" y="69"/>
                    </a:lnTo>
                    <a:lnTo>
                      <a:pt x="274" y="86"/>
                    </a:lnTo>
                    <a:lnTo>
                      <a:pt x="248" y="103"/>
                    </a:lnTo>
                    <a:lnTo>
                      <a:pt x="223" y="120"/>
                    </a:lnTo>
                    <a:lnTo>
                      <a:pt x="197" y="138"/>
                    </a:lnTo>
                    <a:lnTo>
                      <a:pt x="171" y="158"/>
                    </a:lnTo>
                    <a:lnTo>
                      <a:pt x="145" y="178"/>
                    </a:lnTo>
                    <a:lnTo>
                      <a:pt x="119" y="200"/>
                    </a:lnTo>
                    <a:lnTo>
                      <a:pt x="92" y="221"/>
                    </a:lnTo>
                    <a:lnTo>
                      <a:pt x="65" y="244"/>
                    </a:lnTo>
                    <a:lnTo>
                      <a:pt x="38" y="269"/>
                    </a:lnTo>
                    <a:lnTo>
                      <a:pt x="11" y="294"/>
                    </a:lnTo>
                    <a:lnTo>
                      <a:pt x="0" y="332"/>
                    </a:lnTo>
                    <a:lnTo>
                      <a:pt x="3" y="342"/>
                    </a:lnTo>
                    <a:lnTo>
                      <a:pt x="12" y="363"/>
                    </a:lnTo>
                    <a:lnTo>
                      <a:pt x="28" y="395"/>
                    </a:lnTo>
                    <a:lnTo>
                      <a:pt x="51" y="435"/>
                    </a:lnTo>
                    <a:lnTo>
                      <a:pt x="82" y="480"/>
                    </a:lnTo>
                    <a:lnTo>
                      <a:pt x="122" y="529"/>
                    </a:lnTo>
                    <a:lnTo>
                      <a:pt x="172" y="579"/>
                    </a:lnTo>
                    <a:lnTo>
                      <a:pt x="233" y="628"/>
                    </a:lnTo>
                    <a:lnTo>
                      <a:pt x="263" y="651"/>
                    </a:lnTo>
                    <a:lnTo>
                      <a:pt x="285" y="619"/>
                    </a:lnTo>
                    <a:lnTo>
                      <a:pt x="287" y="616"/>
                    </a:lnTo>
                    <a:lnTo>
                      <a:pt x="291" y="611"/>
                    </a:lnTo>
                    <a:lnTo>
                      <a:pt x="297" y="602"/>
                    </a:lnTo>
                    <a:lnTo>
                      <a:pt x="305" y="591"/>
                    </a:lnTo>
                    <a:lnTo>
                      <a:pt x="316" y="577"/>
                    </a:lnTo>
                    <a:lnTo>
                      <a:pt x="328" y="560"/>
                    </a:lnTo>
                    <a:lnTo>
                      <a:pt x="342" y="542"/>
                    </a:lnTo>
                    <a:lnTo>
                      <a:pt x="357" y="522"/>
                    </a:lnTo>
                    <a:lnTo>
                      <a:pt x="376" y="502"/>
                    </a:lnTo>
                    <a:lnTo>
                      <a:pt x="394" y="479"/>
                    </a:lnTo>
                    <a:lnTo>
                      <a:pt x="414" y="456"/>
                    </a:lnTo>
                    <a:lnTo>
                      <a:pt x="436" y="431"/>
                    </a:lnTo>
                    <a:lnTo>
                      <a:pt x="459" y="406"/>
                    </a:lnTo>
                    <a:lnTo>
                      <a:pt x="484" y="382"/>
                    </a:lnTo>
                    <a:lnTo>
                      <a:pt x="508" y="358"/>
                    </a:lnTo>
                    <a:lnTo>
                      <a:pt x="535" y="334"/>
                    </a:lnTo>
                    <a:lnTo>
                      <a:pt x="527" y="318"/>
                    </a:lnTo>
                    <a:lnTo>
                      <a:pt x="519" y="303"/>
                    </a:lnTo>
                    <a:lnTo>
                      <a:pt x="510" y="285"/>
                    </a:lnTo>
                    <a:lnTo>
                      <a:pt x="501" y="264"/>
                    </a:lnTo>
                    <a:lnTo>
                      <a:pt x="479" y="285"/>
                    </a:lnTo>
                    <a:lnTo>
                      <a:pt x="458" y="303"/>
                    </a:lnTo>
                    <a:lnTo>
                      <a:pt x="436" y="323"/>
                    </a:lnTo>
                    <a:lnTo>
                      <a:pt x="417" y="343"/>
                    </a:lnTo>
                    <a:lnTo>
                      <a:pt x="397" y="363"/>
                    </a:lnTo>
                    <a:lnTo>
                      <a:pt x="379" y="383"/>
                    </a:lnTo>
                    <a:lnTo>
                      <a:pt x="362" y="402"/>
                    </a:lnTo>
                    <a:lnTo>
                      <a:pt x="345" y="422"/>
                    </a:lnTo>
                    <a:lnTo>
                      <a:pt x="328" y="440"/>
                    </a:lnTo>
                    <a:lnTo>
                      <a:pt x="314" y="459"/>
                    </a:lnTo>
                    <a:lnTo>
                      <a:pt x="300" y="476"/>
                    </a:lnTo>
                    <a:lnTo>
                      <a:pt x="287" y="491"/>
                    </a:lnTo>
                    <a:lnTo>
                      <a:pt x="276" y="506"/>
                    </a:lnTo>
                    <a:lnTo>
                      <a:pt x="265" y="520"/>
                    </a:lnTo>
                    <a:lnTo>
                      <a:pt x="254" y="534"/>
                    </a:lnTo>
                    <a:lnTo>
                      <a:pt x="246" y="5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Uses of Vector Graphics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143000" y="1219320"/>
            <a:ext cx="7284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Graphics that will be scaled (or resized)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al drawings and CAD program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low chart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Logos that will be scaled (resized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artoons and clip ar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Graphics on websit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Because they have very small file sizes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s allows them to load quickly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nts and specialized text effect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Advantages of Vectors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1173240" y="1981080"/>
            <a:ext cx="720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Resolution Independe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egardless of how much the image is enlarged or reduced, the image definition and quality remain the sam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mall File Siz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asily transferred over the Internet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Disadvantages of Vectors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ower color quality than raster ima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do not support as many colo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t good for photographic ima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Cambria"/>
                <a:hlinkClick r:id="rId1"/>
              </a:rPr>
              <a:t>Click to see an examp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pular Vector Graphic Software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Xara Xtre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dobe Illustrator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orelDraw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XF - AutoCAD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nkscape – open source software similar to Adobe Illustrato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400"/>
            </a:br>
            <a:br>
              <a:rPr sz="1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99036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I – Adobe Illustrator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dustry standard used by developers of vector graphic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d to create, save, and archive original artwork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PS – Encapsulated Postscrip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ta Graph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raphics developers generally save a copy of the AI file in EPS format because it can be opened by computers running different operating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ferred format for vendors/clients  who use the graphics in publications due to its porta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9" name="Text Box 5"/>
          <p:cNvSpPr/>
          <p:nvPr/>
        </p:nvSpPr>
        <p:spPr>
          <a:xfrm>
            <a:off x="99072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alibri"/>
              </a:rPr>
              <a:t>Common Vector File Form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alibri"/>
              </a:rPr>
              <a:t>Meta Graphics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n contain vector and raster data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hapes in vector graphics can be filled with textures and patterns that are raster graphic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Useful when layering text on top of raster graphic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WMF – Windows Metafi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PS – Encapsulated Postscrip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0:11:21Z</dcterms:created>
  <dc:creator>SWRHS</dc:creator>
  <dc:description/>
  <dc:language>en-US</dc:language>
  <cp:lastModifiedBy>ycsadmin</cp:lastModifiedBy>
  <dcterms:modified xsi:type="dcterms:W3CDTF">2011-05-13T05:17:19Z</dcterms:modified>
  <cp:revision>135</cp:revision>
  <dc:subject/>
  <dc:title>What is a Graphic?</dc:title>
</cp:coreProperties>
</file>